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7.jpeg" ContentType="image/jpeg"/>
  <Override PartName="/ppt/media/image126.png" ContentType="image/png"/>
  <Override PartName="/ppt/media/image26.png" ContentType="image/png"/>
  <Override PartName="/ppt/media/image118.jpeg" ContentType="image/jpeg"/>
  <Override PartName="/ppt/media/image101.jpeg" ContentType="image/jpeg"/>
  <Override PartName="/ppt/media/image22.jpeg" ContentType="image/jpeg"/>
  <Override PartName="/ppt/media/image81.jpeg" ContentType="image/jpeg"/>
  <Override PartName="/ppt/media/image6.gif" ContentType="image/gif"/>
  <Override PartName="/ppt/media/image86.png" ContentType="image/png"/>
  <Override PartName="/ppt/media/image83.gif" ContentType="image/gif"/>
  <Override PartName="/ppt/media/image112.jpeg" ContentType="image/jpeg"/>
  <Override PartName="/ppt/media/image3.png" ContentType="image/png"/>
  <Override PartName="/ppt/media/image92.jpeg" ContentType="image/jpeg"/>
  <Override PartName="/ppt/media/image80.png" ContentType="image/png"/>
  <Override PartName="/ppt/media/image4.gif" ContentType="image/gif"/>
  <Override PartName="/ppt/media/image33.jpeg" ContentType="image/jpeg"/>
  <Override PartName="/ppt/media/image13.png" ContentType="image/png"/>
  <Override PartName="/ppt/media/image1.png" ContentType="image/png"/>
  <Override PartName="/ppt/media/image12.wmf" ContentType="image/x-wmf"/>
  <Override PartName="/ppt/media/image116.jpeg" ContentType="image/jpeg"/>
  <Override PartName="/ppt/media/image49.wmf" ContentType="image/x-wmf"/>
  <Override PartName="/ppt/media/image51.png" ContentType="image/png"/>
  <Override PartName="/ppt/media/image9.png" ContentType="image/png"/>
  <Override PartName="/ppt/media/image31.png" ContentType="image/png"/>
  <Override PartName="/ppt/media/image68.png" ContentType="image/png"/>
  <Override PartName="/ppt/media/image47.jpeg" ContentType="image/jpeg"/>
  <Override PartName="/ppt/media/image56.jpeg" ContentType="image/jpeg"/>
  <Override PartName="/ppt/media/image10.wmf" ContentType="image/x-wmf"/>
  <Override PartName="/ppt/media/image53.png" ContentType="image/png"/>
  <Override PartName="/ppt/media/image45.jpeg" ContentType="image/jpeg"/>
  <Override PartName="/ppt/media/image39.jpeg" ContentType="image/jpeg"/>
  <Override PartName="/ppt/media/image2.png" ContentType="image/png"/>
  <Override PartName="/ppt/media/image128.jpeg" ContentType="image/jpeg"/>
  <Override PartName="/ppt/media/image46.jpeg" ContentType="image/jpeg"/>
  <Override PartName="/ppt/media/image58.png" ContentType="image/png"/>
  <Override PartName="/ppt/media/image57.jpeg" ContentType="image/jpeg"/>
  <Override PartName="/ppt/media/image93.jpeg" ContentType="image/jpeg"/>
  <Override PartName="/ppt/media/image90.png" ContentType="image/png"/>
  <Override PartName="/ppt/media/image25.png" ContentType="image/png"/>
  <Override PartName="/ppt/media/image11.png" ContentType="image/png"/>
  <Override PartName="/ppt/media/image43.jpeg" ContentType="image/jpeg"/>
  <Override PartName="/ppt/media/image55.jpeg" ContentType="image/jpeg"/>
  <Override PartName="/ppt/media/image28.png" ContentType="image/png"/>
  <Override PartName="/ppt/media/image50.png" ContentType="image/png"/>
  <Override PartName="/ppt/media/image37.jpeg" ContentType="image/jpeg"/>
  <Override PartName="/ppt/media/image20.png" ContentType="image/png"/>
  <Override PartName="/ppt/media/image8.gif" ContentType="image/gif"/>
  <Override PartName="/ppt/media/image129.jpeg" ContentType="image/jpeg"/>
  <Override PartName="/ppt/media/image35.jpeg" ContentType="image/jpeg"/>
  <Override PartName="/ppt/media/image52.jpeg" ContentType="image/jpeg"/>
  <Override PartName="/ppt/media/image66.png" ContentType="image/png"/>
  <Override PartName="/ppt/media/image120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34.jpeg" ContentType="image/jpeg"/>
  <Override PartName="/ppt/media/image30.jpeg" ContentType="image/jpeg"/>
  <Override PartName="/ppt/media/image18.wmf" ContentType="image/x-wmf"/>
  <Override PartName="/ppt/media/image48.jpeg" ContentType="image/jpeg"/>
  <Override PartName="/ppt/media/image42.jpeg" ContentType="image/jpeg"/>
  <Override PartName="/ppt/media/image54.gif" ContentType="image/gif"/>
  <Override PartName="/ppt/media/image15.jpeg" ContentType="image/jpeg"/>
  <Override PartName="/ppt/media/image16.png" ContentType="image/png"/>
  <Override PartName="/ppt/media/image36.jpeg" ContentType="image/jpeg"/>
  <Override PartName="/ppt/media/image21.jpeg" ContentType="image/jpeg"/>
  <Override PartName="/ppt/media/image100.jpeg" ContentType="image/jpeg"/>
  <Override PartName="/ppt/media/image19.png" ContentType="image/png"/>
  <Override PartName="/ppt/media/image117.jpeg" ContentType="image/jpeg"/>
  <Override PartName="/ppt/media/image23.jpeg" ContentType="image/jpeg"/>
  <Override PartName="/ppt/media/image5.gif" ContentType="image/gif"/>
  <Override PartName="/ppt/media/image17.png" ContentType="image/png"/>
  <Override PartName="/ppt/media/image85.png" ContentType="image/png"/>
  <Override PartName="/ppt/media/image102.jpeg" ContentType="image/jpeg"/>
  <Override PartName="/ppt/media/image119.jpeg" ContentType="image/jpeg"/>
  <Override PartName="/ppt/media/image59.png" ContentType="image/png"/>
  <Override PartName="/ppt/media/image110.png" ContentType="image/png"/>
  <Override PartName="/ppt/media/image24.jpeg" ContentType="image/jpeg"/>
  <Override PartName="/ppt/media/image103.jpeg" ContentType="image/jpeg"/>
  <Override PartName="/ppt/media/image27.jpeg" ContentType="image/jpeg"/>
  <Override PartName="/ppt/media/image106.jpeg" ContentType="image/jpeg"/>
  <Override PartName="/ppt/media/image38.jpeg" ContentType="image/jpeg"/>
  <Override PartName="/ppt/media/image98.jpeg" ContentType="image/jpeg"/>
  <Override PartName="/ppt/media/image72.png" ContentType="image/png"/>
  <Override PartName="/ppt/media/image7.gif" ContentType="image/gif"/>
  <Override PartName="/ppt/media/image29.jpeg" ContentType="image/jpeg"/>
  <Override PartName="/ppt/media/image63.png" ContentType="image/png"/>
  <Override PartName="/ppt/media/image77.gif" ContentType="image/gif"/>
  <Override PartName="/ppt/media/image108.jpeg" ContentType="image/jpeg"/>
  <Override PartName="/ppt/media/image60.png" ContentType="image/png"/>
  <Override PartName="/ppt/media/image61.png" ContentType="image/png"/>
  <Override PartName="/ppt/media/image97.jpeg" ContentType="image/jpeg"/>
  <Override PartName="/ppt/media/image62.png" ContentType="image/png"/>
  <Override PartName="/ppt/media/image96.jpeg" ContentType="image/jpeg"/>
  <Override PartName="/ppt/media/image64.png" ContentType="image/png"/>
  <Override PartName="/ppt/media/image69.png" ContentType="image/png"/>
  <Override PartName="/ppt/media/image70.png" ContentType="image/png"/>
  <Override PartName="/ppt/media/image91.jpeg" ContentType="image/jpeg"/>
  <Override PartName="/ppt/media/image111.jpeg" ContentType="image/jpeg"/>
  <Override PartName="/ppt/media/image71.png" ContentType="image/png"/>
  <Override PartName="/ppt/media/image73.png" ContentType="image/png"/>
  <Override PartName="/ppt/media/image88.gif" ContentType="image/gif"/>
  <Override PartName="/ppt/media/image74.png" ContentType="image/png"/>
  <Override PartName="/ppt/media/image76.jpeg" ContentType="image/jpeg"/>
  <Override PartName="/ppt/media/image65.png" ContentType="image/png"/>
  <Override PartName="/ppt/media/image78.jpeg" ContentType="image/jpeg"/>
  <Override PartName="/ppt/media/image79.gif" ContentType="image/gif"/>
  <Override PartName="/ppt/media/image41.jpeg" ContentType="image/jpeg"/>
  <Override PartName="/ppt/media/image84.wmf" ContentType="image/x-wmf"/>
  <Override PartName="/ppt/media/image113.png" ContentType="image/png"/>
  <Override PartName="/ppt/media/image87.jpeg" ContentType="image/jpeg"/>
  <Override PartName="/ppt/media/image107.jpeg" ContentType="image/jpeg"/>
  <Override PartName="/ppt/media/image121.png" ContentType="image/png"/>
  <Override PartName="/ppt/media/image89.jpeg" ContentType="image/jpeg"/>
  <Override PartName="/ppt/media/image32.png" ContentType="image/png"/>
  <Override PartName="/ppt/media/image94.jpeg" ContentType="image/jpeg"/>
  <Override PartName="/ppt/media/image95.jpeg" ContentType="image/jpeg"/>
  <Override PartName="/ppt/media/image14.png" ContentType="image/png"/>
  <Override PartName="/ppt/media/image99.jpeg" ContentType="image/jpeg"/>
  <Override PartName="/ppt/media/image104.jpeg" ContentType="image/jpeg"/>
  <Override PartName="/ppt/media/image105.jpeg" ContentType="image/jpeg"/>
  <Override PartName="/ppt/media/image109.jpeg" ContentType="image/jpeg"/>
  <Override PartName="/ppt/media/image114.jpeg" ContentType="image/jpeg"/>
  <Override PartName="/ppt/media/image67.png" ContentType="image/png"/>
  <Override PartName="/ppt/media/image115.jpeg" ContentType="image/jpeg"/>
  <Override PartName="/ppt/media/image122.png" ContentType="image/png"/>
  <Override PartName="/ppt/media/image82.wmf" ContentType="image/x-wmf"/>
  <Override PartName="/ppt/media/image123.jpeg" ContentType="image/jpeg"/>
  <Override PartName="/ppt/media/image124.jpeg" ContentType="image/jpeg"/>
  <Override PartName="/ppt/media/image1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773-949B-4762-A2C5-84921676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48D2-AD14-42D7-885B-771EE44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042-CA7B-47CC-ACC5-CF67259E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CD0-5585-4D30-A927-1F245BD9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6A9-6FD0-4289-A0D3-A4BB4B1F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9C53-815A-4CA6-8256-E1284A8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A05F-5766-44F7-BE3C-EF80A741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0023-40F0-4E74-AA31-D06E6AC6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0FB7-9692-4724-8940-811E2751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4E56-23CD-4040-84B6-0C9A9929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6950-38E0-48FC-AB21-ECAAF06E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6D0-681A-4DBD-AA7B-39A16463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B675-17C2-4191-8E74-EA199183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C00C-13CE-4D88-AED7-69DA891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8B2A-E11D-4309-BF17-D890017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073D-DA8F-427F-AC8F-B917D5D0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219-0658-4180-AB94-4308A353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598B1-5049-4239-87CA-C012CE89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2E125-7211-4ABA-8A84-9005E0A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8CD9E-75A4-44E6-A79C-7F18E333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022F0-C43A-48A8-BE42-F5F93157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E71B6-6B36-44EA-A5C1-3C4920C4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F7B-4D44-4025-A189-9BA894E5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915F9-8497-44BD-93CB-480712AF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2DF8A-9A4D-49F1-8054-7F17AEE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4D227-C08E-48CD-AE45-828D413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7FB3A-F418-4E6D-A91C-B26748E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50355-4B3C-43DB-BC20-CBB2F2D6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710EE-CBA9-4C9F-BA0D-56B79248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F9108-58D2-48A6-BB9A-AB859BAF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3261-8BC3-498F-B9D2-0449C3A5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09B79-1274-4466-B28E-46B0EA1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C4C4-02A1-4AAA-AEF5-A7BA29F2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50B-A5C4-48CD-B95C-483D4DF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5973-23D3-40FA-A778-F0114F05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F44D-C3E0-4AD7-B140-19B40F0D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3D52-0B77-46AA-8205-831646C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D12C-45C8-458F-A0FF-46FCA20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C287-6418-4876-88FD-2717F86E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6F46-2440-4A7D-8494-AC4DD280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2FA4-B7FC-4A94-BC58-6B3DD5D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C201-9F77-4187-9290-248D6E81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B3450-619E-405E-990C-7E5A286F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6AA0-CBB4-425A-9B19-A6A96D68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543-2651-45E8-ACBD-22CEC22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5C4B6-C230-4C2D-8CCB-AFA22A3D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C84B9-C896-46D9-8B04-CD92CE5C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B8DD-B958-47D8-B264-B000F61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00013-D107-4A6B-9C2F-A066D07B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1C1E-D472-4401-975F-D4AEFE25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19EB8-5364-4177-919B-DE94649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54A2-A31A-4AB4-AB50-07F2CA1B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3022-787B-4F4B-8F1B-3070A435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534E-DE6D-41F0-874A-5C18DB59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8C52-8043-4E6D-857B-B7C3245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E28-2B27-4C2D-BB96-4D7DAA5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DF01E-A066-401A-BAD0-DF384077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4797-FFB4-444F-AF42-90AAC6FF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3EFE-7DDC-46C7-B021-2A367EE8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B7675-732F-419E-8402-32AFD160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D3B08-415D-4780-AF14-DFE4BCB1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573CE-3CBE-4B9F-BFFB-0C0DDF1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EDB65-4A21-47FE-A73B-3562E86F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4BBD-BA81-4967-BF56-1DBB6F0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5318-A22D-4F5A-9E90-EABABB5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4C73-9065-418F-BBEA-1EC009E1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892-7C0E-4AE5-AC86-600899B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EEC3F-F2B2-410A-BF73-CB2B3AE7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4FCAA-B939-453C-8CE7-D88CB1AA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2ECE-2B80-401C-9EA7-65327546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28E-3ADB-4F06-9480-257BEA3B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048-7F01-417D-B04E-1C1191A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B23-E8D5-445C-B11A-86409E25FEB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7A16-F3BF-4986-A14C-144F336F4F8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8880-6B2C-401C-9EB8-D6E50D0E9D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2EAC-85F8-4098-922A-A308679D10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7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C8EC-831C-4951-BE17-BAE511C136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5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2D2B-56B1-42BA-89D9-8F38F37D69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hyperlink" Target="file:///Archivos%20de%20la%20Presentaci&#243;n%20Los%20Medios%20de%20Comunicaci&#231;on/TODOSLOSPROTAGONISTASDELANUNCIODEFREIXENET.doc" TargetMode="External"/><Relationship Id="rId5" Type="http://schemas.openxmlformats.org/officeDocument/2006/relationships/hyperlink" Target="http://www.osborne.es/" TargetMode="External"/><Relationship Id="rId6" Type="http://schemas.openxmlformats.org/officeDocument/2006/relationships/hyperlink" Target="http://www.osborne.es/" TargetMode="External"/><Relationship Id="rId7" Type="http://schemas.openxmlformats.org/officeDocument/2006/relationships/hyperlink" Target="http://www.osborne.es/" TargetMode="External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hyperlink" Target="file:///Archivos%20de%20la%20Presentaci&#243;n%20Los%20Medios%20de%20Comunicaci&#231;on/MCDONALD.doc" TargetMode="External"/><Relationship Id="rId11" Type="http://schemas.openxmlformats.org/officeDocument/2006/relationships/hyperlink" Target="file:///pop%20publicidad/ARCHIVOS%20PUBLICIDAD/MCDONALD.doc" TargetMode="External"/><Relationship Id="rId12" Type="http://schemas.openxmlformats.org/officeDocument/2006/relationships/hyperlink" Target="file:///pop%20publicidad/ARCHIVOS%20PUBLICIDAD/MCDONALD.doc" TargetMode="External"/><Relationship Id="rId13" Type="http://schemas.openxmlformats.org/officeDocument/2006/relationships/image" Target="../media/image43.jpeg"/><Relationship Id="rId14" Type="http://schemas.openxmlformats.org/officeDocument/2006/relationships/image" Target="../media/image44.png"/><Relationship Id="rId15" Type="http://schemas.openxmlformats.org/officeDocument/2006/relationships/image" Target="../media/image45.jpeg"/><Relationship Id="rId16" Type="http://schemas.openxmlformats.org/officeDocument/2006/relationships/slideLayout" Target="../slideLayouts/slideLayout5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file:///Archivos%20de%20la%20Presentaci&#243;n%20Los%20Medios%20de%20Comunicaci&#231;on/CAMPA&#209;ADEAMNISTIAINTERNACIONAL(mio).doc" TargetMode="External"/><Relationship Id="rId3" Type="http://schemas.openxmlformats.org/officeDocument/2006/relationships/hyperlink" Target="file:///Archivos%20de%20la%20Presentaci&#243;n%20Los%20Medios%20de%20Comunicaci&#231;on/losserrano.doc" TargetMode="External"/><Relationship Id="rId4" Type="http://schemas.openxmlformats.org/officeDocument/2006/relationships/hyperlink" Target="file:///Archivos%20de%20la%20Presentaci&#243;n%20Los%20Medios%20de%20Comunicaci&#231;on/elbarcelonasiguesinpatrocinador.doc" TargetMode="External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hyperlink" Target="file:///Archivos%20de%20la%20Presentaci&#243;n%20Los%20Medios%20de%20Comunicaci&#231;on/Rostrosfamososenlapublicidad.doc" TargetMode="External"/><Relationship Id="rId8" Type="http://schemas.openxmlformats.org/officeDocument/2006/relationships/oleObject" Target="../embeddings/oleObject1.bin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5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rchivos%20de%20la%20Presentaci&#243;n%20Los%20Medios%20de%20Comunicaci&#231;on/dgt.doc" TargetMode="External"/><Relationship Id="rId2" Type="http://schemas.openxmlformats.org/officeDocument/2006/relationships/hyperlink" Target="file:///Archivos%20de%20la%20Presentaci&#243;n%20Los%20Medios%20de%20Comunicaci&#231;on/dgt.doc" TargetMode="External"/><Relationship Id="rId3" Type="http://schemas.openxmlformats.org/officeDocument/2006/relationships/hyperlink" Target="file:///Archivos%20de%20la%20Presentaci&#243;n%20Los%20Medios%20de%20Comunicaci&#231;on/LOSTRANSEXUALESCONTRAAA.doc" TargetMode="External"/><Relationship Id="rId4" Type="http://schemas.openxmlformats.org/officeDocument/2006/relationships/hyperlink" Target="file:///Archivos%20de%20la%20Presentaci&#243;n%20Los%20Medios%20de%20Comunicaci&#231;on/LOSTRANSEXUALESCONTRAAA.doc" TargetMode="External"/><Relationship Id="rId5" Type="http://schemas.openxmlformats.org/officeDocument/2006/relationships/hyperlink" Target="file:///Archivos%20de%20la%20Presentaci&#243;n%20Los%20Medios%20de%20Comunicaci&#231;on/LOSTRANSEXUALESCONTRAAA.doc" TargetMode="External"/><Relationship Id="rId6" Type="http://schemas.openxmlformats.org/officeDocument/2006/relationships/hyperlink" Target="file:///Archivos%20de%20la%20Presentaci&#243;n%20Los%20Medios%20de%20Comunicaci&#231;on/LOSTRANSEXUALESCONTRAAA.doc" TargetMode="External"/><Relationship Id="rId7" Type="http://schemas.openxmlformats.org/officeDocument/2006/relationships/hyperlink" Target="file:///Archivos%20de%20la%20Presentaci&#243;n%20Los%20Medios%20de%20Comunicaci&#231;on/LASMUJERESENCELOSONPOL&#205;TICAMENTEINCORRECTAS.doc" TargetMode="External"/><Relationship Id="rId8" Type="http://schemas.openxmlformats.org/officeDocument/2006/relationships/hyperlink" Target="file:///ARCHIVOS%20PUBLICIDAD/LAS%20MUJERES%20EN%20CELO%20SON%20POL&#205;TICAMENTE%20INCORRECTAS.doc" TargetMode="External"/><Relationship Id="rId9" Type="http://schemas.openxmlformats.org/officeDocument/2006/relationships/hyperlink" Target="file:///Archivos%20de%20la%20Presentaci&#243;n%20Los%20Medios%20de%20Comunicaci&#231;on/LACAMPA&#209;ATUR&#205;STICAOFICIALDEESPA&#209;A.doc" TargetMode="External"/><Relationship Id="rId10" Type="http://schemas.openxmlformats.org/officeDocument/2006/relationships/hyperlink" Target="file:///Archivos%20de%20la%20Presentaci&#243;n%20Los%20Medios%20de%20Comunicaci&#231;on/COCACOLA.doc" TargetMode="External"/><Relationship Id="rId11" Type="http://schemas.openxmlformats.org/officeDocument/2006/relationships/hyperlink" Target="file:///Archivos%20de%20la%20Presentaci&#243;n%20Los%20Medios%20de%20Comunicaci&#231;on/LOSBEB&#201;SYCALVE.doc" TargetMode="External"/><Relationship Id="rId12" Type="http://schemas.openxmlformats.org/officeDocument/2006/relationships/image" Target="../media/image1.png"/><Relationship Id="rId13" Type="http://schemas.openxmlformats.org/officeDocument/2006/relationships/hyperlink" Target="file:///Archivos%20de%20la%20Presentaci&#243;n%20Los%20Medios%20de%20Comunicaci&#231;on/ELESC&#193;NDALOBOCATTA.doc" TargetMode="External"/><Relationship Id="rId14" Type="http://schemas.openxmlformats.org/officeDocument/2006/relationships/hyperlink" Target="file:///ELESC&#193;NDALOBOCATTA.doc" TargetMode="External"/><Relationship Id="rId15" Type="http://schemas.openxmlformats.org/officeDocument/2006/relationships/image" Target="../media/image50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5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image" Target="../media/image70.png"/><Relationship Id="rId14" Type="http://schemas.openxmlformats.org/officeDocument/2006/relationships/image" Target="../media/image71.png"/><Relationship Id="rId15" Type="http://schemas.openxmlformats.org/officeDocument/2006/relationships/image" Target="../media/image72.png"/><Relationship Id="rId16" Type="http://schemas.openxmlformats.org/officeDocument/2006/relationships/image" Target="../media/image73.png"/><Relationship Id="rId17" Type="http://schemas.openxmlformats.org/officeDocument/2006/relationships/image" Target="../media/image74.png"/><Relationship Id="rId18" Type="http://schemas.openxmlformats.org/officeDocument/2006/relationships/slideLayout" Target="../slideLayouts/slideLayout5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2.png"/><Relationship Id="rId5" Type="http://schemas.openxmlformats.org/officeDocument/2006/relationships/image" Target="../media/image66.png"/><Relationship Id="rId6" Type="http://schemas.openxmlformats.org/officeDocument/2006/relationships/hyperlink" Target="http://www.los40.com/" TargetMode="External"/><Relationship Id="rId7" Type="http://schemas.openxmlformats.org/officeDocument/2006/relationships/hyperlink" Target="http://www.los40.com/" TargetMode="External"/><Relationship Id="rId8" Type="http://schemas.openxmlformats.org/officeDocument/2006/relationships/hyperlink" Target="http://www.los40.com/" TargetMode="External"/><Relationship Id="rId9" Type="http://schemas.openxmlformats.org/officeDocument/2006/relationships/image" Target="../media/image75.jpeg"/><Relationship Id="rId10" Type="http://schemas.openxmlformats.org/officeDocument/2006/relationships/slideLayout" Target="../slideLayouts/slideLayout5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hyperlink" Target="http://tallermanual.tripod.com/radio/descripcion/v14.htm" TargetMode="External"/><Relationship Id="rId3" Type="http://schemas.openxmlformats.org/officeDocument/2006/relationships/image" Target="../media/image77.gif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5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hyperlink" Target="http://www.infojobs.net/" TargetMode="External"/><Relationship Id="rId3" Type="http://schemas.openxmlformats.org/officeDocument/2006/relationships/hyperlink" Target="http://www.infoempleo.com/" TargetMode="External"/><Relationship Id="rId4" Type="http://schemas.openxmlformats.org/officeDocument/2006/relationships/hyperlink" Target="http://www.monsters.es/" TargetMode="External"/><Relationship Id="rId5" Type="http://schemas.openxmlformats.org/officeDocument/2006/relationships/hyperlink" Target="http://www.google.es/" TargetMode="External"/><Relationship Id="rId6" Type="http://schemas.openxmlformats.org/officeDocument/2006/relationships/hyperlink" Target="http://www.msn.es/" TargetMode="External"/><Relationship Id="rId7" Type="http://schemas.openxmlformats.org/officeDocument/2006/relationships/hyperlink" Target="http://www.altavista.com/" TargetMode="External"/><Relationship Id="rId8" Type="http://schemas.openxmlformats.org/officeDocument/2006/relationships/hyperlink" Target="http://www.terra.es/" TargetMode="External"/><Relationship Id="rId9" Type="http://schemas.openxmlformats.org/officeDocument/2006/relationships/hyperlink" Target="http://www.wannadoo.es/" TargetMode="External"/><Relationship Id="rId10" Type="http://schemas.openxmlformats.org/officeDocument/2006/relationships/hyperlink" Target="http://www.ya.com/" TargetMode="External"/><Relationship Id="rId11" Type="http://schemas.openxmlformats.org/officeDocument/2006/relationships/hyperlink" Target="http://www.tiscali.es/" TargetMode="External"/><Relationship Id="rId12" Type="http://schemas.openxmlformats.org/officeDocument/2006/relationships/hyperlink" Target="http://www.hotmail.com/" TargetMode="External"/><Relationship Id="rId13" Type="http://schemas.openxmlformats.org/officeDocument/2006/relationships/hyperlink" Target="http://www.yahoo.es/" TargetMode="External"/><Relationship Id="rId14" Type="http://schemas.openxmlformats.org/officeDocument/2006/relationships/hyperlink" Target="http://www.telefonica.es/" TargetMode="External"/><Relationship Id="rId15" Type="http://schemas.openxmlformats.org/officeDocument/2006/relationships/hyperlink" Target="http://www.amena.com/" TargetMode="External"/><Relationship Id="rId16" Type="http://schemas.openxmlformats.org/officeDocument/2006/relationships/hyperlink" Target="http://www.segundamano.es/" TargetMode="External"/><Relationship Id="rId17" Type="http://schemas.openxmlformats.org/officeDocument/2006/relationships/hyperlink" Target="http://www.qdq.com/" TargetMode="External"/><Relationship Id="rId18" Type="http://schemas.openxmlformats.org/officeDocument/2006/relationships/hyperlink" Target="http://www.paginasamarillas.es/" TargetMode="External"/><Relationship Id="rId19" Type="http://schemas.openxmlformats.org/officeDocument/2006/relationships/hyperlink" Target="http://www.elcorteingles.es/" TargetMode="External"/><Relationship Id="rId20" Type="http://schemas.openxmlformats.org/officeDocument/2006/relationships/hyperlink" Target="http://www.fnac.es/" TargetMode="External"/><Relationship Id="rId21" Type="http://schemas.openxmlformats.org/officeDocument/2006/relationships/hyperlink" Target="http://www.pandasoftware.es/" TargetMode="External"/><Relationship Id="rId22" Type="http://schemas.openxmlformats.org/officeDocument/2006/relationships/hyperlink" Target="http://www.softonic.es/" TargetMode="External"/><Relationship Id="rId23" Type="http://schemas.openxmlformats.org/officeDocument/2006/relationships/hyperlink" Target="http://www.ebay.es/" TargetMode="External"/><Relationship Id="rId24" Type="http://schemas.openxmlformats.org/officeDocument/2006/relationships/image" Target="../media/image79.gif"/><Relationship Id="rId25" Type="http://schemas.openxmlformats.org/officeDocument/2006/relationships/image" Target="../media/image80.png"/><Relationship Id="rId26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wmf"/><Relationship Id="rId4" Type="http://schemas.openxmlformats.org/officeDocument/2006/relationships/slideLayout" Target="../slideLayouts/slideLayout5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3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5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e.es/" TargetMode="External"/><Relationship Id="rId3" Type="http://schemas.openxmlformats.org/officeDocument/2006/relationships/hyperlink" Target="http://www.rtve.es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antena3tv.com/" TargetMode="External"/><Relationship Id="rId6" Type="http://schemas.openxmlformats.org/officeDocument/2006/relationships/hyperlink" Target="http://www.telecinco.es/" TargetMode="External"/><Relationship Id="rId7" Type="http://schemas.openxmlformats.org/officeDocument/2006/relationships/hyperlink" Target="http://www.telecinco.es/" TargetMode="External"/><Relationship Id="rId8" Type="http://schemas.openxmlformats.org/officeDocument/2006/relationships/hyperlink" Target="http://www.telecinco.es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cuatro.com/" TargetMode="External"/><Relationship Id="rId11" Type="http://schemas.openxmlformats.org/officeDocument/2006/relationships/hyperlink" Target="http://www.lasexta.com/" TargetMode="External"/><Relationship Id="rId12" Type="http://schemas.openxmlformats.org/officeDocument/2006/relationships/image" Target="../media/image1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jpeg"/><Relationship Id="rId16" Type="http://schemas.openxmlformats.org/officeDocument/2006/relationships/image" Target="../media/image88.gif"/><Relationship Id="rId17" Type="http://schemas.openxmlformats.org/officeDocument/2006/relationships/image" Target="../media/image89.jpeg"/><Relationship Id="rId18" Type="http://schemas.openxmlformats.org/officeDocument/2006/relationships/image" Target="../media/image90.png"/><Relationship Id="rId19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uentamecomopaso.net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losserrano.telecinco.es/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www.antena3.com/aquinohayquienviva/" TargetMode="External"/><Relationship Id="rId7" Type="http://schemas.openxmlformats.org/officeDocument/2006/relationships/hyperlink" Target="http://www.7vidas.telecinco.es/" TargetMode="External"/><Relationship Id="rId8" Type="http://schemas.openxmlformats.org/officeDocument/2006/relationships/hyperlink" Target="http://www.aida.telecinco.es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hospitalcentral.telecinco.es/" TargetMode="External"/><Relationship Id="rId11" Type="http://schemas.openxmlformats.org/officeDocument/2006/relationships/hyperlink" Target="http://www.antena3.com/unpasoadelante" TargetMode="External"/><Relationship Id="rId12" Type="http://schemas.openxmlformats.org/officeDocument/2006/relationships/hyperlink" Target="http://www.antena3.com/unpasoadelante" TargetMode="External"/><Relationship Id="rId13" Type="http://schemas.openxmlformats.org/officeDocument/2006/relationships/image" Target="../media/image91.jpeg"/><Relationship Id="rId14" Type="http://schemas.openxmlformats.org/officeDocument/2006/relationships/image" Target="../media/image92.jpeg"/><Relationship Id="rId1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raquienbaila.es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antena3.com/millonario" TargetMode="External"/><Relationship Id="rId5" Type="http://schemas.openxmlformats.org/officeDocument/2006/relationships/hyperlink" Target="http://www.antena3.com/millonario" TargetMode="External"/><Relationship Id="rId6" Type="http://schemas.openxmlformats.org/officeDocument/2006/relationships/hyperlink" Target="http://www.antena3.com/millonario" TargetMode="External"/><Relationship Id="rId7" Type="http://schemas.openxmlformats.org/officeDocument/2006/relationships/hyperlink" Target="http://www.antena3.com/millonario" TargetMode="External"/><Relationship Id="rId8" Type="http://schemas.openxmlformats.org/officeDocument/2006/relationships/hyperlink" Target="http://www.antena3.com/millonario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elrivalmasdebil.com/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www.granhermano.telecinco.es/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telecinco.es/allatu.htm" TargetMode="External"/><Relationship Id="rId15" Type="http://schemas.openxmlformats.org/officeDocument/2006/relationships/hyperlink" Target="http://www.telecinco.es/allatu.htm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www.ot.telecinco.es/" TargetMode="External"/><Relationship Id="rId18" Type="http://schemas.openxmlformats.org/officeDocument/2006/relationships/hyperlink" Target="http://www.ot.telecinco.es/" TargetMode="External"/><Relationship Id="rId19" Type="http://schemas.openxmlformats.org/officeDocument/2006/relationships/image" Target="../media/image1.png"/><Relationship Id="rId20" Type="http://schemas.openxmlformats.org/officeDocument/2006/relationships/hyperlink" Target="http://www.rtve.es/queapostamos" TargetMode="External"/><Relationship Id="rId21" Type="http://schemas.openxmlformats.org/officeDocument/2006/relationships/hyperlink" Target="http://www.rtve.es/queapostamos" TargetMode="External"/><Relationship Id="rId22" Type="http://schemas.openxmlformats.org/officeDocument/2006/relationships/image" Target="../media/image1.png"/><Relationship Id="rId23" Type="http://schemas.openxmlformats.org/officeDocument/2006/relationships/hyperlink" Target="http://www.rtve.es/granprix" TargetMode="External"/><Relationship Id="rId24" Type="http://schemas.openxmlformats.org/officeDocument/2006/relationships/hyperlink" Target="http://www.rtve.es/granprix" TargetMode="External"/><Relationship Id="rId25" Type="http://schemas.openxmlformats.org/officeDocument/2006/relationships/image" Target="../media/image93.jpeg"/><Relationship Id="rId26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narosa.telecinco.es/" TargetMode="External"/><Relationship Id="rId3" Type="http://schemas.openxmlformats.org/officeDocument/2006/relationships/hyperlink" Target="http://www.atulado.telecinco.es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salsarosa.telecinco.es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antena3.com/corazon/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www.aquihaytomate.telecinco.es/" TargetMode="External"/><Relationship Id="rId10" Type="http://schemas.openxmlformats.org/officeDocument/2006/relationships/hyperlink" Target="http://www.aquihaytomate.telecinco.es/" TargetMode="External"/><Relationship Id="rId11" Type="http://schemas.openxmlformats.org/officeDocument/2006/relationships/hyperlink" Target="http://www.aquihaytomate.telecinco.es/" TargetMode="External"/><Relationship Id="rId12" Type="http://schemas.openxmlformats.org/officeDocument/2006/relationships/image" Target="../media/image94.jpeg"/><Relationship Id="rId1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5.jpeg"/><Relationship Id="rId6" Type="http://schemas.openxmlformats.org/officeDocument/2006/relationships/image" Target="../media/image96.jpeg"/><Relationship Id="rId7" Type="http://schemas.openxmlformats.org/officeDocument/2006/relationships/slideLayout" Target="../slideLayouts/slideLayout56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101.jpeg"/><Relationship Id="rId10" Type="http://schemas.openxmlformats.org/officeDocument/2006/relationships/image" Target="../media/image102.jpeg"/><Relationship Id="rId11" Type="http://schemas.openxmlformats.org/officeDocument/2006/relationships/image" Target="../media/image103.jpeg"/><Relationship Id="rId12" Type="http://schemas.openxmlformats.org/officeDocument/2006/relationships/image" Target="../media/image104.jpeg"/><Relationship Id="rId13" Type="http://schemas.openxmlformats.org/officeDocument/2006/relationships/image" Target="../media/image105.jpeg"/><Relationship Id="rId14" Type="http://schemas.openxmlformats.org/officeDocument/2006/relationships/image" Target="../media/image106.jpeg"/><Relationship Id="rId15" Type="http://schemas.openxmlformats.org/officeDocument/2006/relationships/image" Target="../media/image107.jpeg"/><Relationship Id="rId16" Type="http://schemas.openxmlformats.org/officeDocument/2006/relationships/image" Target="../media/image108.jpeg"/><Relationship Id="rId17" Type="http://schemas.openxmlformats.org/officeDocument/2006/relationships/slideLayout" Target="../slideLayouts/slideLayout5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png"/><Relationship Id="rId3" Type="http://schemas.openxmlformats.org/officeDocument/2006/relationships/image" Target="../media/image111.jpeg"/><Relationship Id="rId4" Type="http://schemas.openxmlformats.org/officeDocument/2006/relationships/image" Target="../media/image112.jpeg"/><Relationship Id="rId5" Type="http://schemas.openxmlformats.org/officeDocument/2006/relationships/image" Target="../media/image113.png"/><Relationship Id="rId6" Type="http://schemas.openxmlformats.org/officeDocument/2006/relationships/image" Target="../media/image114.jpeg"/><Relationship Id="rId7" Type="http://schemas.openxmlformats.org/officeDocument/2006/relationships/image" Target="../media/image115.jpeg"/><Relationship Id="rId8" Type="http://schemas.openxmlformats.org/officeDocument/2006/relationships/image" Target="../media/image116.jpeg"/><Relationship Id="rId9" Type="http://schemas.openxmlformats.org/officeDocument/2006/relationships/image" Target="../media/image117.jpeg"/><Relationship Id="rId10" Type="http://schemas.openxmlformats.org/officeDocument/2006/relationships/image" Target="../media/image118.jpeg"/><Relationship Id="rId11" Type="http://schemas.openxmlformats.org/officeDocument/2006/relationships/slideLayout" Target="../slideLayouts/slideLayout5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utopiasoft.net/ssebas/premio.htm" TargetMode="External"/><Relationship Id="rId2" Type="http://schemas.openxmlformats.org/officeDocument/2006/relationships/image" Target="../media/image119.jpeg"/><Relationship Id="rId3" Type="http://schemas.openxmlformats.org/officeDocument/2006/relationships/hyperlink" Target="http://uk.wrs.yahoo.com/_ylt=A9htdaN1GNZDrYAAFBJNBQx.;_ylu=X3oDMTA2bTQ0OXZjBHNlYwNzcg--/SIG=1hkpsrn3c/EXP=1138190837/**http%3A//uk.search.yahoo.com/search/images/view%3Fback=http%253A%252F%252Fuk.search.yahoo.com%252Fsearch%252Fimages%253Fp%253Dlos%252Bgoya%2526ei%253DUTF-8%2526fl%253D0%2526fr%253DFP-tab-img-t%2526b%253D21%26w=200%26h=280%26imgurl=www.lasprovincias.es%252FRC%252F200512%252F15%252FMedia%252Fgoya--200x280.jpg%26rurl=http%253A%252F%252Fwww.lasprovincias.es%252Fvalencia%252Fpg051215%252Factualidad%252Fcultura%252F200512%252F15%252FRC-goya.html%26size=8.6kB%26name=goya--200x280.jpg%26p=los%2Bgoya%26type=jpeg%26no=24%26tt=3,103%26ei=UTF-8%26src=p" TargetMode="External"/><Relationship Id="rId4" Type="http://schemas.openxmlformats.org/officeDocument/2006/relationships/image" Target="../media/image120.jpeg"/><Relationship Id="rId5" Type="http://schemas.openxmlformats.org/officeDocument/2006/relationships/hyperlink" Target="http://www.melies.org/" TargetMode="External"/><Relationship Id="rId6" Type="http://schemas.openxmlformats.org/officeDocument/2006/relationships/image" Target="../media/image121.png"/><Relationship Id="rId7" Type="http://schemas.openxmlformats.org/officeDocument/2006/relationships/hyperlink" Target="http://www.melies.org/" TargetMode="External"/><Relationship Id="rId8" Type="http://schemas.openxmlformats.org/officeDocument/2006/relationships/image" Target="../media/image122.png"/><Relationship Id="rId9" Type="http://schemas.openxmlformats.org/officeDocument/2006/relationships/image" Target="../media/image123.jpeg"/><Relationship Id="rId10" Type="http://schemas.openxmlformats.org/officeDocument/2006/relationships/slideLayout" Target="../slideLayouts/slideLayout3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png"/><Relationship Id="rId4" Type="http://schemas.openxmlformats.org/officeDocument/2006/relationships/hyperlink" Target="file:///../BIOGRAFIADEGARCI.doc" TargetMode="External"/><Relationship Id="rId5" Type="http://schemas.openxmlformats.org/officeDocument/2006/relationships/hyperlink" Target="file:///Archivos%20de%20la%20Presentaci&#243;n%20Los%20Medios%20de%20Comunicaci&#231;on/BIOGRAFIADEGARCI.doc" TargetMode="External"/><Relationship Id="rId6" Type="http://schemas.openxmlformats.org/officeDocument/2006/relationships/hyperlink" Target="file:///Archivos%20de%20la%20Presentaci&#243;n%20Los%20Medios%20de%20Comunicaci&#231;on/BIOGRAFIADEGARCI.doc" TargetMode="External"/><Relationship Id="rId7" Type="http://schemas.openxmlformats.org/officeDocument/2006/relationships/hyperlink" Target="file:///Archivos%20de%20la%20Presentaci&#243;n%20Los%20Medios%20de%20Comunicaci&#231;on/BIOGRAFIADEGARCI.doc" TargetMode="External"/><Relationship Id="rId8" Type="http://schemas.openxmlformats.org/officeDocument/2006/relationships/hyperlink" Target="file:///Archivos%20de%20la%20Presentaci&#243;n%20Los%20Medios%20de%20Comunicaci&#231;on/BIOGRAFIADEGARCI.doc" TargetMode="External"/><Relationship Id="rId9" Type="http://schemas.openxmlformats.org/officeDocument/2006/relationships/hyperlink" Target="file:///Archivos%20de%20la%20Presentaci&#243;n%20Los%20Medios%20de%20Comunicaci&#231;on/BIOGRAFIADEGARCI.doc" TargetMode="External"/><Relationship Id="rId10" Type="http://schemas.openxmlformats.org/officeDocument/2006/relationships/hyperlink" Target="file:///Archivos%20de%20la%20Presentaci&#243;n%20Los%20Medios%20de%20Comunicaci&#231;on/SINOPSISDEVOLVERAEMPEZAR.doc" TargetMode="External"/><Relationship Id="rId11" Type="http://schemas.openxmlformats.org/officeDocument/2006/relationships/hyperlink" Target="file:///Archivos%20de%20la%20Presentaci&#243;n%20Los%20Medios%20de%20Comunicaci&#231;on/SINOPSISDEVOLVERAEMPEZAR.doc" TargetMode="External"/><Relationship Id="rId12" Type="http://schemas.openxmlformats.org/officeDocument/2006/relationships/hyperlink" Target="file:///Archivos%20de%20la%20Presentaci&#243;n%20Los%20Medios%20de%20Comunicaci&#231;on/SINOPSISDEVOLVERAEMPEZAR.doc" TargetMode="External"/><Relationship Id="rId13" Type="http://schemas.openxmlformats.org/officeDocument/2006/relationships/hyperlink" Target="file:///Archivos%20de%20la%20Presentaci&#243;n%20Los%20Medios%20de%20Comunicaci&#231;on/SINOPSISDEVOLVERAEMPEZAR.doc" TargetMode="External"/><Relationship Id="rId14" Type="http://schemas.openxmlformats.org/officeDocument/2006/relationships/hyperlink" Target="file:///Archivos%20de%20la%20Presentaci&#243;n%20Los%20Medios%20de%20Comunicaci&#231;on/SINOPSISDEVOLVERAEMPEZAR.doc" TargetMode="External"/><Relationship Id="rId15" Type="http://schemas.openxmlformats.org/officeDocument/2006/relationships/hyperlink" Target="file:///Archivos%20de%20la%20Presentaci&#243;n%20Los%20Medios%20de%20Comunicaci&#231;on/SINOPSISDEVOLVERAEMPEZAR.doc" TargetMode="External"/><Relationship Id="rId16" Type="http://schemas.openxmlformats.org/officeDocument/2006/relationships/hyperlink" Target="file:///Archivos%20de%20la%20Presentaci&#243;n%20Los%20Medios%20de%20Comunicaci&#231;on/BIOGRAFIADEPEDROALMODOVAR.doc" TargetMode="External"/><Relationship Id="rId17" Type="http://schemas.openxmlformats.org/officeDocument/2006/relationships/hyperlink" Target="file:///Archivos%20de%20la%20Presentaci&#243;n%20Los%20Medios%20de%20Comunicaci&#231;on/BIOGRAFIADEPEDROALMODOVAR.doc" TargetMode="External"/><Relationship Id="rId18" Type="http://schemas.openxmlformats.org/officeDocument/2006/relationships/hyperlink" Target="file:///../SINOPSISTODOSOBREMIMADRE.doc" TargetMode="External"/><Relationship Id="rId19" Type="http://schemas.openxmlformats.org/officeDocument/2006/relationships/image" Target="../media/image127.jpeg"/><Relationship Id="rId20" Type="http://schemas.openxmlformats.org/officeDocument/2006/relationships/hyperlink" Target="file:///../SINOPSISHABLECONELLA.doc" TargetMode="External"/><Relationship Id="rId21" Type="http://schemas.openxmlformats.org/officeDocument/2006/relationships/hyperlink" Target="file:///../SINOPSISDEMARADENTRO.doc" TargetMode="External"/><Relationship Id="rId22" Type="http://schemas.openxmlformats.org/officeDocument/2006/relationships/image" Target="../media/image128.jpeg"/><Relationship Id="rId23" Type="http://schemas.openxmlformats.org/officeDocument/2006/relationships/image" Target="../media/image129.jpeg"/><Relationship Id="rId2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file:///Archivos%20de%20la%20Presentaci&#243;n%20Los%20Medios%20de%20Comunicaci&#231;on/polemicaprensarosa.doc" TargetMode="External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5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09680" y="2133360"/>
            <a:ext cx="5943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600200" y="3200400"/>
            <a:ext cx="640080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6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Unicode MS"/>
              </a:rPr>
              <a:t>Los Medios 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Unicode MS"/>
              </a:rPr>
              <a:t>de Comunicación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Unicode MS"/>
              <a:ea typeface="Arial Unicode M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295640" cy="10670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143000" cy="13428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4038480" y="525780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5"/>
          <a:stretch/>
        </p:blipFill>
        <p:spPr>
          <a:xfrm>
            <a:off x="7543800" y="54100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914400" y="1676520"/>
            <a:ext cx="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990720"/>
            <a:ext cx="2057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990720"/>
            <a:ext cx="198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610480" y="1371600"/>
            <a:ext cx="0" cy="457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6019920"/>
            <a:ext cx="29718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6019920"/>
            <a:ext cx="2361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3733920" y="304920"/>
            <a:ext cx="1904760" cy="1307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De los 4.922 anuncios de TV diarios los espectadores sólo ven 77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Un 80% de la inversión publicitaria en radio se concentra en tres grupos: Ser, Cope y Onda Cer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El cine es un medio para incluir imágenes de productos prohibidos en televisión (bebidas alcohólicas o tabaco) y negocios del barr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as vallas publicitarias sólo pueden estar en ciudades y carreteras no naciona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Zara, Mercadona y Aquarius han demostrado que la publicidad es prescindible. Su éxito comercial abre el debate sobre la eficacia de la comunicación comercial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ba3d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Los sectores que más invierten en publicidad en Internet son: telecomunicaciones (17,9%), las finanzas (16,25%), portales (11%) y automoción (9,8%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04920" y="0"/>
            <a:ext cx="8838720" cy="1612440"/>
            <a:chOff x="304920" y="0"/>
            <a:chExt cx="8838720" cy="1612440"/>
          </a:xfrm>
        </p:grpSpPr>
        <p:sp>
          <p:nvSpPr>
            <p:cNvPr id="709" name=""/>
            <p:cNvSpPr txBox="1"/>
            <p:nvPr/>
          </p:nvSpPr>
          <p:spPr>
            <a:xfrm>
              <a:off x="4076640" y="698400"/>
              <a:ext cx="1066320" cy="76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Impact"/>
                </a:rPr>
                <a:t>dato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  <a:ea typeface="Impact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304920" y="0"/>
              <a:ext cx="8838720" cy="1612440"/>
              <a:chOff x="304920" y="0"/>
              <a:chExt cx="8838720" cy="1612440"/>
            </a:xfrm>
          </p:grpSpPr>
          <p:sp>
            <p:nvSpPr>
              <p:cNvPr id="711" name=""/>
              <p:cNvSpPr txBox="1"/>
              <p:nvPr/>
            </p:nvSpPr>
            <p:spPr>
              <a:xfrm>
                <a:off x="2469960" y="0"/>
                <a:ext cx="4463640" cy="1079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ccff"/>
                    </a:solidFill>
                    <a:latin typeface="Trebuchet MS"/>
                  </a:rPr>
                  <a:t>la publicidad</a:t>
                </a:r>
                <a:endParaRPr b="0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ccff"/>
                  </a:solidFill>
                  <a:latin typeface="Trebuchet MS"/>
                  <a:ea typeface="Trebuchet MS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304920" y="12600"/>
                <a:ext cx="8838720" cy="1599840"/>
                <a:chOff x="304920" y="12600"/>
                <a:chExt cx="8838720" cy="1599840"/>
              </a:xfrm>
            </p:grpSpPr>
            <p:pic>
              <p:nvPicPr>
                <p:cNvPr id="71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80000" y="51840"/>
                  <a:ext cx="1763640" cy="156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4920" y="12600"/>
                  <a:ext cx="1828440" cy="159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2280960" cy="13064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4211640" y="4941720"/>
            <a:ext cx="1197000" cy="158436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5"/>
          <a:stretch/>
        </p:blipFill>
        <p:spPr>
          <a:xfrm>
            <a:off x="6588000" y="5300640"/>
            <a:ext cx="1692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2652840" y="4295880"/>
            <a:ext cx="1338120" cy="13777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1319040" y="4292640"/>
            <a:ext cx="1355760" cy="9525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39640" y="4729320"/>
            <a:ext cx="1224000" cy="9586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324000" y="5560200"/>
            <a:ext cx="45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Freixenet</a:t>
            </a:r>
            <a:r>
              <a:rPr b="1" lang="es-ES_tradnl" sz="1600" spc="-1" strike="noStrike">
                <a:solidFill>
                  <a:srgbClr val="ffcc00"/>
                </a:solidFill>
                <a:latin typeface="Tahoma"/>
              </a:rPr>
              <a:t> es un ejemplo de un “anuncio anunciado”. Las noticias, la prensa anuncian su emisión como si de una película se tratase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752480" y="347760"/>
            <a:ext cx="5616720" cy="490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Verdana"/>
              </a:rPr>
              <a:t>más que anunci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Verdana"/>
              <a:ea typeface="Verdana"/>
            </a:endParaRPr>
          </a:p>
        </p:txBody>
      </p:sp>
      <p:sp>
        <p:nvSpPr>
          <p:cNvPr id="723" name=""/>
          <p:cNvSpPr/>
          <p:nvPr/>
        </p:nvSpPr>
        <p:spPr>
          <a:xfrm>
            <a:off x="5580000" y="5097600"/>
            <a:ext cx="3200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5"/>
              </a:rPr>
              <a:t>El toro de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6"/>
              </a:rPr>
              <a:t>Osborne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Tahoma"/>
                <a:hlinkClick r:id="rId7"/>
              </a:rPr>
              <a:t> </a:t>
            </a:r>
            <a:r>
              <a:rPr b="1" lang="es-ES_tradnl" sz="1600" spc="-1" strike="noStrike">
                <a:solidFill>
                  <a:srgbClr val="ffcc00"/>
                </a:solidFill>
                <a:latin typeface="Tahoma"/>
              </a:rPr>
              <a:t>es la única valla publicitaria situada fuera de la ciudad, que puede considerarse perteneciente al paisaje nacional.</a:t>
            </a: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8"/>
          <a:stretch/>
        </p:blipFill>
        <p:spPr>
          <a:xfrm>
            <a:off x="5651640" y="981000"/>
            <a:ext cx="2282760" cy="307836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9"/>
          <a:stretch/>
        </p:blipFill>
        <p:spPr>
          <a:xfrm>
            <a:off x="6875640" y="3186000"/>
            <a:ext cx="205740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26" name=""/>
          <p:cNvGrpSpPr/>
          <p:nvPr/>
        </p:nvGrpSpPr>
        <p:grpSpPr>
          <a:xfrm>
            <a:off x="218160" y="907920"/>
            <a:ext cx="5135400" cy="3233520"/>
            <a:chOff x="218160" y="907920"/>
            <a:chExt cx="5135400" cy="3233520"/>
          </a:xfrm>
        </p:grpSpPr>
        <p:sp>
          <p:nvSpPr>
            <p:cNvPr id="727" name=""/>
            <p:cNvSpPr/>
            <p:nvPr/>
          </p:nvSpPr>
          <p:spPr>
            <a:xfrm>
              <a:off x="218160" y="3285000"/>
              <a:ext cx="51354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Los anuncios de la lotería de Navidad y Freixenet</a:t>
              </a:r>
              <a:endParaRPr b="0" lang="en-US" sz="1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iconos de las navidades españolas así como los </a:t>
              </a:r>
              <a:endParaRPr b="0" lang="en-US" sz="16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anuncios de antes y después de las </a:t>
              </a:r>
              <a:r>
                <a:rPr b="0" lang="es-ES_tradnl" sz="1600" spc="-1" strike="noStrike" u="sng">
                  <a:solidFill>
                    <a:srgbClr val="ffff99"/>
                  </a:solidFill>
                  <a:uFillTx/>
                  <a:latin typeface="Tahoma"/>
                  <a:hlinkClick r:id="rId10"/>
                </a:rPr>
                <a:t>campanadas</a:t>
              </a:r>
              <a:r>
                <a:rPr b="0" lang="es-ES_tradnl" sz="1600" spc="-1" strike="noStrike" u="sng">
                  <a:solidFill>
                    <a:srgbClr val="ffff99"/>
                  </a:solidFill>
                  <a:uFillTx/>
                  <a:latin typeface="Tahoma"/>
                  <a:hlinkClick r:id="rId11"/>
                </a:rPr>
                <a:t>.</a:t>
              </a:r>
              <a:r>
                <a:rPr b="0" lang="es-ES_tradnl" sz="1400" spc="-1" strike="noStrike" u="sng">
                  <a:solidFill>
                    <a:srgbClr val="ffff99"/>
                  </a:solidFill>
                  <a:uFillTx/>
                  <a:latin typeface="Tahoma"/>
                  <a:hlinkClick r:id="rId12"/>
                </a:rPr>
                <a:t> </a:t>
              </a:r>
              <a:endParaRPr b="0" lang="en-US" sz="14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260280" y="907920"/>
              <a:ext cx="4262400" cy="2362320"/>
              <a:chOff x="260280" y="907920"/>
              <a:chExt cx="4262400" cy="2362320"/>
            </a:xfrm>
          </p:grpSpPr>
          <p:pic>
            <p:nvPicPr>
              <p:cNvPr id="72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0280" y="907920"/>
                <a:ext cx="1650960" cy="236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36680" y="907920"/>
                <a:ext cx="2286000" cy="138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236680" y="1912680"/>
                <a:ext cx="2286000" cy="135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2" name=""/>
          <p:cNvSpPr/>
          <p:nvPr/>
        </p:nvSpPr>
        <p:spPr>
          <a:xfrm>
            <a:off x="5148360" y="4076640"/>
            <a:ext cx="24080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cc00"/>
                </a:solidFill>
                <a:latin typeface="Tahoma"/>
              </a:rPr>
              <a:t>www.jorgetutor.com</a:t>
            </a:r>
            <a:endParaRPr b="0" lang="en-US" sz="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6804000" y="1413000"/>
            <a:ext cx="1523880" cy="21524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6019920" y="3734640"/>
            <a:ext cx="31240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Campaña de Amnistía Internacional </a:t>
            </a:r>
            <a:r>
              <a:rPr b="1" lang="es-ES_tradnl" sz="1400" spc="-1" strike="noStrike">
                <a:solidFill>
                  <a:srgbClr val="ffcc00"/>
                </a:solidFill>
                <a:latin typeface="Tahoma"/>
              </a:rPr>
              <a:t>contra la homofobia y represión homosexual con fotos de famosos relacionados con la homosexualidad</a:t>
            </a:r>
            <a:r>
              <a:rPr b="1" lang="es-ES_tradnl" sz="1400" spc="-1" strike="noStrike">
                <a:solidFill>
                  <a:srgbClr val="ff505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403280" y="114480"/>
            <a:ext cx="639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s famosos invaden la publicidad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/>
          <p:nvPr/>
        </p:nvSpPr>
        <p:spPr>
          <a:xfrm>
            <a:off x="5076720" y="5445000"/>
            <a:ext cx="38689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“Los Serrano” </a:t>
            </a:r>
            <a:r>
              <a:rPr b="1" lang="es-ES_tradnl" sz="1400" spc="-1" strike="noStrike">
                <a:solidFill>
                  <a:srgbClr val="ffcc00"/>
                </a:solidFill>
                <a:latin typeface="Tahoma"/>
              </a:rPr>
              <a:t>es una de las series más vistas en España y en la que se pueden ver hasta 21 productos diferentes por emisión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" y="3500280"/>
            <a:ext cx="230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c00"/>
                </a:solidFill>
                <a:latin typeface="Tahoma"/>
              </a:rPr>
              <a:t>Beckham es el rey de la publicidad (Pepsi, Gillete, Vodafone) ingresando 18 mill. € (el 73% de su suelo)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627280" y="3645000"/>
            <a:ext cx="33847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El Barcelona  </a:t>
            </a: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y el Athlétic de Bilbao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son los únicos equipos que no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llevan patrocinadores en su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ffcc00"/>
                </a:solidFill>
                <a:latin typeface="Tahoma"/>
              </a:rPr>
              <a:t>camisetas</a:t>
            </a:r>
            <a:r>
              <a:rPr b="0" lang="es-ES" sz="1600" spc="-1" strike="noStrike">
                <a:solidFill>
                  <a:srgbClr val="ff505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5"/>
          <a:stretch/>
        </p:blipFill>
        <p:spPr>
          <a:xfrm>
            <a:off x="684360" y="1484280"/>
            <a:ext cx="1341360" cy="201312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6"/>
          <a:stretch/>
        </p:blipFill>
        <p:spPr>
          <a:xfrm>
            <a:off x="2987640" y="1700280"/>
            <a:ext cx="2468520" cy="170964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50920" y="692280"/>
            <a:ext cx="88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66cc"/>
                </a:solidFill>
                <a:latin typeface="Arial"/>
              </a:rPr>
              <a:t>LA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PRESENCIA DE FAMOSOS </a:t>
            </a:r>
            <a:r>
              <a:rPr b="1" lang="es-ES" sz="1600" spc="-1" strike="noStrike">
                <a:solidFill>
                  <a:srgbClr val="ff66cc"/>
                </a:solidFill>
                <a:latin typeface="Arial"/>
              </a:rPr>
              <a:t>EN PUBLICIDAD HA AUMENADO UN 400%  EN LOS ULTIMOS 10 AÑO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4680" y="4930920"/>
            <a:ext cx="44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EFECTIVIDAD MEDIA DE ANUNCIOS CO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MOSO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5157720"/>
          <a:ext cx="4200480" cy="170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5157720"/>
                    <a:ext cx="420048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1335600" y="6453360"/>
            <a:ext cx="153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Fuente: Next TV Europe 2005</a:t>
            </a:r>
            <a:endParaRPr b="0" lang="en-US" sz="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8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24000" y="2491920"/>
            <a:ext cx="4038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Los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anuncios de la DGT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siempre controvetidos por su durez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Anuncio de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Aguila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5"/>
              </a:rPr>
              <a:t>Amstel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6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y los transexua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El efecto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7"/>
              </a:rPr>
              <a:t>Axe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8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y sus anuncios políticamente incorrec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La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9"/>
              </a:rPr>
              <a:t>campaña turística oficial de España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, tachada de machist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0"/>
              </a:rPr>
              <a:t>Coca-cola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 contra Aragón y Valenc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Los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1"/>
              </a:rPr>
              <a:t>bebes de Calvé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y la interepretación de maltrat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>
              <a:lnSpc>
                <a:spcPct val="100000"/>
              </a:lnSpc>
              <a:spcBef>
                <a:spcPts val="4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26720" indent="-126720" algn="ct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692360" y="228600"/>
            <a:ext cx="5759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Anuncios controvert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749" name=""/>
          <p:cNvSpPr/>
          <p:nvPr/>
        </p:nvSpPr>
        <p:spPr>
          <a:xfrm>
            <a:off x="1276560" y="1145520"/>
            <a:ext cx="67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cc"/>
                </a:solidFill>
                <a:latin typeface="Verdana"/>
              </a:rPr>
              <a:t>300 SPOTS PROVOCARON RECLAMACIONES Y DENUNCIA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cc"/>
                </a:solidFill>
                <a:latin typeface="Verdana"/>
              </a:rPr>
              <a:t>SÓLO EN EL AÑO 2.002</a:t>
            </a:r>
            <a:r>
              <a:rPr b="1" lang="es-ES_tradnl" sz="1600" spc="-1" strike="noStrike">
                <a:solidFill>
                  <a:srgbClr val="ff66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00600" y="5157720"/>
            <a:ext cx="4038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89ec"/>
                </a:solidFill>
                <a:latin typeface="Tahoma"/>
              </a:rPr>
              <a:t>     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El anuncio de 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3"/>
              </a:rPr>
              <a:t>Bocatta</a:t>
            </a:r>
            <a:r>
              <a:rPr b="0" lang="es-ES" sz="1600" spc="-1" strike="noStrike" u="sng">
                <a:solidFill>
                  <a:srgbClr val="ffff99"/>
                </a:solidFill>
                <a:uFillTx/>
                <a:latin typeface="Tahoma"/>
                <a:hlinkClick r:id="rId14"/>
              </a:rPr>
              <a:t> </a:t>
            </a:r>
            <a:r>
              <a:rPr b="1" lang="es-ES" sz="1600" spc="-1" strike="noStrike">
                <a:solidFill>
                  <a:srgbClr val="ff89ec"/>
                </a:solidFill>
                <a:latin typeface="Tahoma"/>
              </a:rPr>
              <a:t>fue prohibido porque desprestigia al mundo rural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5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6"/>
          <a:stretch/>
        </p:blipFill>
        <p:spPr>
          <a:xfrm>
            <a:off x="5105520" y="21337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8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8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800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752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752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1" dur="1" fill="hold"/>
                                        <p:tgtEl>
                                          <p:spTgt spid="7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24000" y="549360"/>
            <a:ext cx="813564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uncios que todo el mundo recuerd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6732720" y="3276720"/>
            <a:ext cx="1720800" cy="225252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6372360" y="5734080"/>
            <a:ext cx="2592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ahoma"/>
              </a:rPr>
              <a:t>La canción de  “Cola Cao” un hecho insólito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ahoma"/>
              </a:rPr>
              <a:t>en la comunicación publicitaria española</a:t>
            </a:r>
            <a:r>
              <a:rPr b="1" lang="es-ES_tradnl" sz="16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4000" y="12618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El estilo más usado hasta los ochenta era la publicidad con 'eslogan' y a ser posible que rimara. Actualmente la fuerza está en las imágenes y unos cierrres con trascendencia y sencillez. Sin embargo, algunas frasecitas han quedado archivadas para siempre en la memoria colectiva.</a:t>
            </a:r>
            <a:r>
              <a:rPr b="0" lang="en-GB" sz="1800" spc="-1" strike="noStrike">
                <a:solidFill>
                  <a:srgbClr val="ff0066"/>
                </a:solidFill>
                <a:latin typeface="Alb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11280" y="2961360"/>
            <a:ext cx="5545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Busque, compare y se encuentra algo mejor, cómprelo”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Detergente, Camp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ara las manchas de picota, una solución quiero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Detergente, Ariel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óntelo, pónselo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Prevención SIDA, Campaña del Ministerio de Asuntos Sociales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Del Caserío me fío” </a:t>
            </a:r>
            <a:r>
              <a:rPr b="1" lang="en-GB" sz="16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Quesitos, El Caserio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A mi plin, yo duermo en Pikolín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Colchones Pikolin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El secreto está en la masa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Pizza, Telepizza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¿Dónde está Curro?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Agencia de Viajes, Halcón Viajes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Hola, soy Edu, Feliz Navidad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telefonía móvil, Airtel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Él nunca lo haría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Protectora de animales, Fundación Affinity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Tu pasas el Pronto y yo el paño” </a:t>
            </a:r>
            <a:r>
              <a:rPr b="1" lang="en-GB" sz="1200" spc="-1" strike="noStrike">
                <a:solidFill>
                  <a:srgbClr val="ffff66"/>
                </a:solidFill>
                <a:latin typeface="Arial"/>
              </a:rPr>
              <a:t>(Limpiador, Pronto)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861048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8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8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8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8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0"/>
                            </p:stCondLst>
                            <p:childTnLst>
                              <p:par>
                                <p:cTn id="8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8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800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7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000"/>
                            </p:stCondLst>
                            <p:childTnLst>
                              <p:par>
                                <p:cTn id="8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800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2" dur="63715" fill="hold"/>
                                        <p:tgtEl>
                                          <p:spTgt spid="7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170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n Españ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rincipales emisoras de ra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579640" y="1484280"/>
            <a:ext cx="533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Datos sobre la ra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rogramas má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uch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754360" cy="36050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 txBox="1"/>
          <p:nvPr/>
        </p:nvSpPr>
        <p:spPr>
          <a:xfrm>
            <a:off x="2771640" y="549360"/>
            <a:ext cx="39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La Radi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1911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5" dur="500"/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8" dur="6598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Debido al soporte que tiene como medio informativo, es un medio muy válido para la publicidad, siendo una gran herramienta para llegar a un amplio públic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Más de 18 millones de personas escuchan la radio en España, haciendo que se produzca una gran inversión publicitaria llegando en el 2000 a los 150 millones de euros, un 7,7% más que en el 1999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La cadena SER fue la primera oferta de radio, situándose a gran distancia de sus competidoras por su audiencia, resultados y calida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99"/>
                </a:solidFill>
                <a:latin typeface="Trebuchet MS"/>
              </a:rPr>
              <a:t>La radio influye en la política, en el consumo, en la educación, fomenta conductas, influye en casi todos los rincones de una sociedad.</a:t>
            </a: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5"/>
          <a:stretch/>
        </p:blipFill>
        <p:spPr>
          <a:xfrm>
            <a:off x="3780000" y="4869000"/>
            <a:ext cx="1523880" cy="126972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 txBox="1"/>
          <p:nvPr/>
        </p:nvSpPr>
        <p:spPr>
          <a:xfrm>
            <a:off x="1692360" y="620640"/>
            <a:ext cx="597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Radio en Españ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2268360" y="530064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5292720" y="5300640"/>
            <a:ext cx="151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2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2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2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2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2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20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2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7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688360" cy="489600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3419640" y="4800600"/>
            <a:ext cx="936360" cy="7221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936360" cy="4712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42920" y="33336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incipales Emisoras de Radio</a:t>
            </a:r>
            <a:endParaRPr b="0" lang="en-US" sz="2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5"/>
          <a:stretch/>
        </p:blipFill>
        <p:spPr>
          <a:xfrm>
            <a:off x="468360" y="4944960"/>
            <a:ext cx="753840" cy="79380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6"/>
          <a:stretch/>
        </p:blipFill>
        <p:spPr>
          <a:xfrm>
            <a:off x="5219640" y="2492280"/>
            <a:ext cx="598680" cy="59868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7"/>
          <a:stretch/>
        </p:blipFill>
        <p:spPr>
          <a:xfrm>
            <a:off x="6227640" y="2349360"/>
            <a:ext cx="936720" cy="6480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8"/>
          <a:stretch/>
        </p:blipFill>
        <p:spPr>
          <a:xfrm>
            <a:off x="7740720" y="1773360"/>
            <a:ext cx="1187280" cy="4730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9"/>
          <a:stretch/>
        </p:blipFill>
        <p:spPr>
          <a:xfrm>
            <a:off x="7812000" y="2421000"/>
            <a:ext cx="1081080" cy="6890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10"/>
          <a:stretch/>
        </p:blipFill>
        <p:spPr>
          <a:xfrm>
            <a:off x="468360" y="4076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11"/>
          <a:stretch/>
        </p:blipFill>
        <p:spPr>
          <a:xfrm>
            <a:off x="3995640" y="1700280"/>
            <a:ext cx="1081080" cy="47448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12"/>
          <a:stretch/>
        </p:blipFill>
        <p:spPr>
          <a:xfrm>
            <a:off x="7812000" y="5229360"/>
            <a:ext cx="1008000" cy="5760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13"/>
          <a:stretch/>
        </p:blipFill>
        <p:spPr>
          <a:xfrm>
            <a:off x="7812000" y="4149720"/>
            <a:ext cx="936720" cy="7192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14"/>
          <a:stretch/>
        </p:blipFill>
        <p:spPr>
          <a:xfrm>
            <a:off x="7812000" y="3213000"/>
            <a:ext cx="1008000" cy="647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15"/>
          <a:stretch/>
        </p:blipFill>
        <p:spPr>
          <a:xfrm>
            <a:off x="250920" y="2565360"/>
            <a:ext cx="1117440" cy="5367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6"/>
          <a:stretch/>
        </p:blipFill>
        <p:spPr>
          <a:xfrm>
            <a:off x="324000" y="1844640"/>
            <a:ext cx="985680" cy="4906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7"/>
          <a:stretch/>
        </p:blipFill>
        <p:spPr>
          <a:xfrm>
            <a:off x="7885080" y="6021360"/>
            <a:ext cx="1008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6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3300"/>
                </a:solidFill>
                <a:latin typeface="Trebuchet MS"/>
              </a:rPr>
              <a:t>Datos sobre la Radi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La 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ionera de la radio en España, actividad en la que lleva 78 añ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Tiene más de 4.431.000 de oyentes, situándose en el primer lugar de audie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Gracias al programa Ser Digital miles de personas nos escuchan más allá de nuestras fronter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Uno de los medios más seguidos por la sociedad española gracias a su variada programación (buenos servicios informativos y deport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Los 40 princip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s la radio fórmula líder entre las emisoras musicales de España (detrás de la S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7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‘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¡Anda ya!’ Es el cuarto programa más escuchado de todas las programaciones de la rad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763640" y="5229360"/>
            <a:ext cx="1584360" cy="100800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5651640" y="5084640"/>
            <a:ext cx="1871640" cy="12240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5724360" y="6021360"/>
            <a:ext cx="2808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  <a:hlinkClick r:id="rId6"/>
              </a:rPr>
              <a:t>www.los40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  <a:hlinkClick r:id="rId7"/>
              </a:rPr>
              <a:t>.</a:t>
            </a: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  <a:hlinkClick r:id="rId8"/>
              </a:rPr>
              <a:t>com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03280" y="630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Trebuchet MS"/>
              </a:rPr>
              <a:t>www.cadenaser.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9"/>
          <a:stretch/>
        </p:blipFill>
        <p:spPr>
          <a:xfrm>
            <a:off x="5638680" y="4038480"/>
            <a:ext cx="19051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1.86284E-006 L 0 -0.08411 E">
                                      <p:cBhvr>
                                        <p:cTn id="10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1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8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0" dur="8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1" dur="8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8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2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158760"/>
            <a:ext cx="7859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b53a0"/>
                </a:solidFill>
                <a:latin typeface="Trebuchet MS"/>
              </a:rPr>
              <a:t>Programas más escuch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La radio ha marcado sonidos de un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5148360" y="314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Garamond"/>
              </a:rPr>
              <a:t>‘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Garamond"/>
              </a:rPr>
              <a:t>Golpe de Estado 23-F’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68360" y="2565360"/>
            <a:ext cx="439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http://tallermanual.tripod.com/radio/descripcion/v14.ht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Los programas más escuchados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53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Onda Cer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- ‘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Gomaespuma’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53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unto Radi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-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‘Protagonistas’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 de Luis del Olmo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53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Ser                    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La Ventana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de Gemma Nierga                       -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‘El larguero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or José Ramón de la                                                                                                                                                                                                           Morena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-‘Hora 25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or Carlos Llamas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-‘Hablar por Hablar’ 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or Mara Torre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-‘Carrusel deportivo’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5219640" y="4656240"/>
            <a:ext cx="2808360" cy="83808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62485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5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8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8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3" dur="72529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098800" y="1211040"/>
            <a:ext cx="4946400" cy="4469040"/>
            <a:chOff x="2098800" y="1211040"/>
            <a:chExt cx="4946400" cy="4469040"/>
          </a:xfrm>
        </p:grpSpPr>
        <p:sp>
          <p:nvSpPr>
            <p:cNvPr id="650" name="_s338949"/>
            <p:cNvSpPr/>
            <p:nvPr/>
          </p:nvSpPr>
          <p:spPr>
            <a:xfrm flipH="1">
              <a:off x="3381120" y="4303440"/>
              <a:ext cx="595080" cy="34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_s338950"/>
            <p:cNvSpPr/>
            <p:nvPr/>
          </p:nvSpPr>
          <p:spPr>
            <a:xfrm>
              <a:off x="2098800" y="4305240"/>
              <a:ext cx="1374480" cy="1374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ns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s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_s338951"/>
            <p:cNvSpPr/>
            <p:nvPr/>
          </p:nvSpPr>
          <p:spPr>
            <a:xfrm>
              <a:off x="5165640" y="4305240"/>
              <a:ext cx="596880" cy="34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_s338952"/>
            <p:cNvSpPr/>
            <p:nvPr/>
          </p:nvSpPr>
          <p:spPr>
            <a:xfrm>
              <a:off x="5670720" y="4305240"/>
              <a:ext cx="1374480" cy="13748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ensa 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portiv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_s338953"/>
            <p:cNvSpPr/>
            <p:nvPr/>
          </p:nvSpPr>
          <p:spPr>
            <a:xfrm flipV="1">
              <a:off x="4572000" y="2585880"/>
              <a:ext cx="0" cy="68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5" name="_s338954"/>
            <p:cNvSpPr/>
            <p:nvPr/>
          </p:nvSpPr>
          <p:spPr>
            <a:xfrm>
              <a:off x="3884760" y="1211040"/>
              <a:ext cx="1374480" cy="137484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iario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6" name="_s338955"/>
            <p:cNvSpPr/>
            <p:nvPr/>
          </p:nvSpPr>
          <p:spPr>
            <a:xfrm>
              <a:off x="3884760" y="3274920"/>
              <a:ext cx="1374480" cy="137484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NS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276360" y="836280"/>
            <a:ext cx="56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ínternautas españoles utilizan más la red para buscar trabaj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Google es la herramienta princip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webs de los gobiernos autonómicos reciben más visitas que la Administración cent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 las webs institucionales, sólo dos son de ámbito nacional Agencia Tributaria (www.aeat.es) y el Boletín Oficial del Estado (www.boe.es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4114800" y="304920"/>
            <a:ext cx="3581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0" y="228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3600" spc="-1" strike="noStrike">
                <a:solidFill>
                  <a:srgbClr val="ff9900"/>
                </a:solidFill>
                <a:latin typeface="Tahoma"/>
              </a:rPr>
              <a:t>Internet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1332000" y="2599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Empleo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Cada vez se navega más para buscar trabaj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"/>
              </a:rPr>
              <a:t>www.infojobs.n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3"/>
              </a:rPr>
              <a:t>www.infoempleo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4"/>
              </a:rPr>
              <a:t>www.monsters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Buscadores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5"/>
              </a:rPr>
              <a:t>www.google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es el líder, seguido de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6"/>
              </a:rPr>
              <a:t>www.msn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7"/>
              </a:rPr>
              <a:t>www.altavista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ortales de correo electrónico gratuit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8"/>
              </a:rPr>
              <a:t>www.terra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9"/>
              </a:rPr>
              <a:t>www.wannadoo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0"/>
              </a:rPr>
              <a:t>www.ya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1"/>
              </a:rPr>
              <a:t>www.tiscali.es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2"/>
              </a:rPr>
              <a:t>www.hotmail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3"/>
              </a:rPr>
              <a:t>www.yahoo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Telefonía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elefónica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4"/>
              </a:rPr>
              <a:t>www.telefonica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Amena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5"/>
              </a:rPr>
              <a:t>www.amena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Guías de Anuncio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6"/>
              </a:rPr>
              <a:t>www.segundamano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w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7"/>
              </a:rPr>
              <a:t>ww.qdq.com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8"/>
              </a:rPr>
              <a:t>www.paginasamarillas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ffffff"/>
                </a:solidFill>
                <a:uFillTx/>
                <a:latin typeface="Trebuchet MS"/>
              </a:rPr>
              <a:t>Compras y Bancos on li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ucha gente hace la compra  y consulta su cuenta bancaria por interne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19"/>
              </a:rPr>
              <a:t>www.elcorteingles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0"/>
              </a:rPr>
              <a:t>www.fnac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1"/>
              </a:rPr>
              <a:t>www.pandasoftware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2"/>
              </a:rPr>
              <a:t>www.softonic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      </a:t>
            </a:r>
            <a:r>
              <a:rPr b="0" lang="es-ES" sz="1200" spc="-1" strike="noStrike" u="sng">
                <a:solidFill>
                  <a:srgbClr val="ffff99"/>
                </a:solidFill>
                <a:uFillTx/>
                <a:latin typeface="Trebuchet MS"/>
                <a:hlinkClick r:id="rId23"/>
              </a:rPr>
              <a:t>www.ebay.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547640" y="620640"/>
            <a:ext cx="367200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897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ffff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or Sectores</a:t>
            </a:r>
            <a:endParaRPr b="0" lang="en-US" sz="1800" spc="1" strike="noStrike">
              <a:ln w="22320">
                <a:solidFill>
                  <a:srgbClr val="00ffff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4"/>
          <a:stretch/>
        </p:blipFill>
        <p:spPr>
          <a:xfrm>
            <a:off x="395280" y="18900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25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4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7" dur="500"/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0" dur="500"/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" dur="500"/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" dur="500"/>
                                        <p:tgtEl>
                                          <p:spTgt spid="8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8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8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8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2" dur="500"/>
                                        <p:tgtEl>
                                          <p:spTgt spid="81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7" dur="500"/>
                                        <p:tgtEl>
                                          <p:spTgt spid="81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81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81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ás de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tres mill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 españoles compran por internet lo que supone un 8,4% de la población mayor de 15 añ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productos más demandados por internet son los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viajes</a:t>
            </a:r>
            <a:r>
              <a:rPr b="0" lang="es-E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 un 59,1%, seguido de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entradas</a:t>
            </a:r>
            <a:r>
              <a:rPr b="0" lang="es-ES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de espectáculo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con el 35,2%,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libros y revist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o material de aprendizaje electrónico, con el 24,6%, y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vídeos y músic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con el 16,5%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51,9% de los hogares dispone de algún tipo de orden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 El 48,6% de la población mayor de 15 años utiliza el ordenador y, de ellos, el 86% lo utiliza frecuentement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64d1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usuario informático español típico es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varó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un 53%),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joven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el 85% entre 15 y 24 años y el 72% entre 25 y 34 años),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estudia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el 95%), o con </a:t>
            </a:r>
            <a:r>
              <a:rPr b="1" lang="es-ES" sz="2000" spc="-1" strike="noStrike">
                <a:solidFill>
                  <a:srgbClr val="ffff99"/>
                </a:solidFill>
                <a:latin typeface="Tahoma"/>
              </a:rPr>
              <a:t>educación superi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el 89% de los titulares universitarios o similares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979640" y="404640"/>
            <a:ext cx="49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64d18"/>
                </a:solidFill>
                <a:latin typeface="Impact"/>
              </a:rPr>
              <a:t>Comercio on-lin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64d18"/>
              </a:solidFill>
              <a:latin typeface="Impact"/>
              <a:ea typeface="Impact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6836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9" name=""/>
          <p:cNvGraphicFramePr/>
          <p:nvPr/>
        </p:nvGraphicFramePr>
        <p:xfrm>
          <a:off x="1476360" y="6381720"/>
          <a:ext cx="5400720" cy="25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6381720"/>
                    <a:ext cx="54007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0" fill="hold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0" fill="hold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84% de los españoles utiliza el correo electrónico, sin embargo sólo el 13% de los internáutas españoles habla por internet con o sin cámara we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comunicación por internet alcanza todo tipo de temas desde los de carácter personal hasta los de trabajo o estudi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chats son un espacio de comunicación más centrado en los temas person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 txBox="1"/>
          <p:nvPr/>
        </p:nvSpPr>
        <p:spPr>
          <a:xfrm>
            <a:off x="684360" y="404640"/>
            <a:ext cx="640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ernet como espacio de comunic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835280" y="4076640"/>
          <a:ext cx="6049800" cy="27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4076640"/>
                    <a:ext cx="6049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7" name=""/>
          <p:cNvSpPr/>
          <p:nvPr/>
        </p:nvSpPr>
        <p:spPr>
          <a:xfrm>
            <a:off x="3059280" y="3500280"/>
            <a:ext cx="54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50348"/>
                </a:solidFill>
                <a:latin typeface="Trebuchet MS"/>
              </a:rPr>
              <a:t>Temas de los que habla la gente jóven por internet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9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20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Century Gothic"/>
              </a:rPr>
              <a:t>CADENAS NACIONALES DE TELEVISIÓ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televisión pública cumple ya 50 añ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www.rtve.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a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écada de los 90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nacieron dos nuevos canales, Antena 3 y Telecinco, que con el paso del tiempo se han ido afianzand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5"/>
              </a:rPr>
              <a:t>http://www.antena3tv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6"/>
              </a:rPr>
              <a:t>http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7"/>
              </a:rPr>
              <a:t>://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8"/>
              </a:rPr>
              <a:t>www.telecinco.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urante el 2005 y 2006 hemos sido testigo del nacimiento de dos nuevos canales de televisión, Canal 4 y la Sex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10"/>
              </a:rPr>
              <a:t>http://www.cuatro.c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Tahoma"/>
                <a:hlinkClick r:id="rId11"/>
              </a:rPr>
              <a:t>http://www.lasexta.co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d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á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 de las cadenas nacionales, en Esp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ñ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 hay un bue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úm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cadenas auto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icas, regionales, locales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3"/>
          <a:stretch/>
        </p:blipFill>
        <p:spPr>
          <a:xfrm>
            <a:off x="4572000" y="307008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4"/>
          <a:stretch/>
        </p:blipFill>
        <p:spPr>
          <a:xfrm>
            <a:off x="5940360" y="3068640"/>
            <a:ext cx="681120" cy="64764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5"/>
          <a:stretch/>
        </p:blipFill>
        <p:spPr>
          <a:xfrm>
            <a:off x="4114800" y="4876920"/>
            <a:ext cx="1584360" cy="57600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6"/>
          <a:stretch/>
        </p:blipFill>
        <p:spPr>
          <a:xfrm>
            <a:off x="7812000" y="333360"/>
            <a:ext cx="792360" cy="6904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Ver Video"/>
          <p:cNvPicPr/>
          <p:nvPr/>
        </p:nvPicPr>
        <p:blipFill>
          <a:blip r:embed="rId17"/>
          <a:stretch/>
        </p:blipFill>
        <p:spPr>
          <a:xfrm>
            <a:off x="6477120" y="1523880"/>
            <a:ext cx="1371600" cy="6955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18"/>
          <a:stretch/>
        </p:blipFill>
        <p:spPr>
          <a:xfrm>
            <a:off x="6248520" y="4800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Ranking de audiencias 2005</a:t>
            </a:r>
            <a:br>
              <a:rPr sz="4000"/>
            </a:br>
            <a:r>
              <a:rPr b="1" i="1" lang="en-GB" sz="1400" spc="-1" strike="noStrike">
                <a:solidFill>
                  <a:srgbClr val="ffff99"/>
                </a:solidFill>
                <a:latin typeface="Arial"/>
              </a:rPr>
              <a:t>Elaboración Corporación Multimedia sobre datos TN Audiencia de Medios </a:t>
            </a:r>
            <a:br>
              <a:rPr sz="1400"/>
            </a:br>
            <a:r>
              <a:rPr b="1" i="1" lang="en-GB" sz="1400" spc="-1" strike="noStrike">
                <a:solidFill>
                  <a:srgbClr val="ffff99"/>
                </a:solidFill>
                <a:latin typeface="Arial"/>
              </a:rPr>
              <a:t>Emisiones con duración igual o superior a 10 minutos</a:t>
            </a: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457200" y="1600200"/>
          <a:ext cx="8002440" cy="4743360"/>
        </p:xfrm>
        <a:graphic>
          <a:graphicData uri="http://schemas.openxmlformats.org/drawingml/2006/table">
            <a:tbl>
              <a:tblPr/>
              <a:tblGrid>
                <a:gridCol w="584280"/>
                <a:gridCol w="5618160"/>
                <a:gridCol w="865080"/>
                <a:gridCol w="934920"/>
              </a:tblGrid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ISIÓN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D.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San Marino-Españ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España – Eslovaqui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/1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erie española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quí no hay quien viv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/0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erie española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quí no hay quien viv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/0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ga de campeones: Juventus – Real Madrid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/0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Serbia – Españ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/0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Serie española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quí no hay quien viv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/0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ga de campeones: Barcelona – Chelse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/02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Eslovaquia – España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3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/1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útbol: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lasificación mundial: España – Serbia 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VE1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/09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El </a:t>
            </a:r>
            <a:r>
              <a:rPr b="0" i="1" lang="es-ES_tradnl" sz="4400" spc="-1" strike="noStrike">
                <a:solidFill>
                  <a:srgbClr val="ffff99"/>
                </a:solidFill>
                <a:latin typeface="Arial"/>
              </a:rPr>
              <a:t>boom </a:t>
            </a: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de las series español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ccff"/>
                </a:solidFill>
                <a:latin typeface="Verdana"/>
              </a:rPr>
              <a:t>Hoy en día, se ve más ficción española que nunca. Y además, muchas series españolas han vendido su formato a otros paíse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Cuéntame como pasó (TVE 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://www.cuentamecomopaso.net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Los Serrano (T5),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se ha vendido a Uruguay, Chile, Francia, Portugal e Itali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http://www.losserrano.telecinco.es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Aquí no hay quién viva (A3)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 pronte 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e podrá ver en Latinoamérica, en cadenas hispanas de EEUU y se ha vendido el formato a Italia y Portugal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http://www.antena3.com/aquinohayquienviva/</a:t>
            </a: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Siete vidas (T5) 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 partir de un divertido personaje de esta serie, surgió otra nueva serie </a:t>
            </a:r>
            <a:r>
              <a:rPr b="1" lang="en-GB" sz="1400" spc="-1" strike="noStrike">
                <a:solidFill>
                  <a:srgbClr val="cc00cc"/>
                </a:solidFill>
                <a:latin typeface="Verdana"/>
              </a:rPr>
              <a:t>Aída (T5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http://www.7vidas.telecinco.es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http://www.aida.telecinco.e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cc"/>
                </a:solidFill>
                <a:latin typeface="Verdana"/>
              </a:rPr>
              <a:t>Hospital Central (T5)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se emite en México y en cadenas hispanas de EEUU y el formato se ha vendido a varios países europe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http://www.hospitalcentral.telecinco.e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Sin embargo, la que más se ha exportado ha sido </a:t>
            </a:r>
            <a:r>
              <a:rPr b="1" lang="es-ES_tradnl" sz="1400" spc="-1" strike="noStrike">
                <a:solidFill>
                  <a:srgbClr val="cc00cc"/>
                </a:solidFill>
                <a:latin typeface="Verdana"/>
              </a:rPr>
              <a:t>Un paso adelante (A3)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, serie que se desarrollaba en una academia de música y que se vendió a Italia, Francia, Cuba, Bélgica, Uruguay, Serbia-Montenegro, Portugal, Alemania, Brasil y México. </a:t>
            </a: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http</a:t>
            </a:r>
            <a:r>
              <a:rPr b="0" lang="es-ES_tradnl" sz="14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://www.antena3.com/unpasoadelante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3"/>
          <a:stretch/>
        </p:blipFill>
        <p:spPr>
          <a:xfrm>
            <a:off x="7020000" y="14130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14"/>
          <a:stretch/>
        </p:blipFill>
        <p:spPr>
          <a:xfrm>
            <a:off x="7164360" y="4076640"/>
            <a:ext cx="1765440" cy="22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500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500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8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8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8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Century Gothic"/>
              </a:rPr>
              <a:t>Concurs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4995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ccff"/>
                </a:solidFill>
                <a:latin typeface="Verdana"/>
              </a:rPr>
              <a:t>En España, se pueden ver algunos de los concursos que más triunfan en otros paíse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Mira quien baila</a:t>
            </a:r>
            <a:r>
              <a:rPr b="0" i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(TVE1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://www.miraquienbaila.e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¿Quién quiere ser millonario? (A3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http://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www.antena3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.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com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/millonari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El rival más débil (TVE1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http://www.elrivalmasdebil.com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Gran hermano (T5)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http://www.granhermano.telecinco.e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Allá tú (T5)</a:t>
            </a:r>
            <a:r>
              <a:rPr b="0" lang="es-ES_tradnl" sz="16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4"/>
              </a:rPr>
              <a:t>http: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5"/>
              </a:rPr>
              <a:t>//www.telecinco.es/allatu.htm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ccff"/>
                </a:solidFill>
                <a:latin typeface="Verdana"/>
              </a:rPr>
              <a:t>Sin embargo, también se han exportado algunos concursos españoles a otros países. Algunos se emiten como los conocemos y de otros se han hecho versiones para el país de origen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En Europa, se han hecho varias versiones de </a:t>
            </a:r>
            <a:r>
              <a:rPr b="1" lang="es-ES_tradnl" sz="1600" spc="-1" strike="noStrike">
                <a:solidFill>
                  <a:srgbClr val="cc00cc"/>
                </a:solidFill>
                <a:latin typeface="Verdana"/>
              </a:rPr>
              <a:t>Operación Triunfo (T5)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y también se ha vendido el formato a la cadena estadounidense AB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7"/>
              </a:rPr>
              <a:t>http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18"/>
              </a:rPr>
              <a:t>://www.ot.telecinco.e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Verdana"/>
              </a:rPr>
              <a:t>¿Qué apostamos? (TVE1),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Este programa en el que famosos apuestan si los concursantes son capaces de realizar la prueba propuesta tiene su propia versión en Polonia.  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1"/>
              </a:rPr>
              <a:t>://www.rtve.es/queapostamos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Verdana"/>
              </a:rPr>
              <a:t>Gran Prix (TVE1),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la versión original de este concurso, en el que dos pueblos se enfrentan, se emite doblada en Indonesia.  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3"/>
              </a:rPr>
              <a:t>http</a:t>
            </a:r>
            <a:r>
              <a:rPr b="0" lang="es-ES_tradnl" sz="1600" spc="-1" strike="noStrike" u="sng">
                <a:solidFill>
                  <a:srgbClr val="ffff99"/>
                </a:solidFill>
                <a:uFillTx/>
                <a:latin typeface="Verdana"/>
                <a:hlinkClick r:id="rId24"/>
              </a:rPr>
              <a:t>://www.rtve.es/granprix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25"/>
          <a:stretch/>
        </p:blipFill>
        <p:spPr>
          <a:xfrm>
            <a:off x="7467480" y="609480"/>
            <a:ext cx="1428840" cy="161928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7162920" y="2362320"/>
            <a:ext cx="18288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Garamond"/>
              </a:rPr>
              <a:t>Jesus Vazquez, presentador de Allá tú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1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1" dur="500"/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8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9" dur="500"/>
                                        <p:tgtEl>
                                          <p:spTgt spid="8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Otros program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075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agazin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El programa de Ana Rosa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://www.anarosa.telecinco.es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A tu lado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http://www.atulado.telecinco.es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ccff"/>
                </a:solidFill>
                <a:latin typeface="Verdana"/>
              </a:rPr>
              <a:t>Desde hace algunos años, se ha hecho cada vez más popular los programas del corazón. Cada cadena tiene al menos uno o dos programas de este tipo. Los más popular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Salsa rosa (T5)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http://www.salsarosa.telecinco.es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¿Dónde estás corazón? (A3)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http://www.antena3.com/corazon/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cc"/>
                </a:solidFill>
                <a:latin typeface="Verdana"/>
              </a:rPr>
              <a:t>Aquí hay tomate (T5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http://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www.aquihaytomate.telecinco.es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2"/>
          <a:stretch/>
        </p:blipFill>
        <p:spPr>
          <a:xfrm>
            <a:off x="7467480" y="3886200"/>
            <a:ext cx="1428840" cy="16002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629400" y="5445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Garamond"/>
              </a:rPr>
              <a:t>Jorge Javier</a:t>
            </a:r>
            <a:r>
              <a:rPr b="0" lang="es-PE" sz="1800" spc="-1" strike="noStrike">
                <a:solidFill>
                  <a:srgbClr val="ffffff"/>
                </a:solidFill>
                <a:latin typeface="Garamond"/>
              </a:rPr>
              <a:t>  y </a:t>
            </a:r>
            <a:r>
              <a:rPr b="1" lang="es-PE" sz="1800" spc="-1" strike="noStrike">
                <a:solidFill>
                  <a:srgbClr val="ffffff"/>
                </a:solidFill>
                <a:latin typeface="Garamond"/>
              </a:rPr>
              <a:t>Carmen Alcaide, presentadores de 'Aquí hay tomate'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5" dur="indefinite" restart="never" nodeType="tmRoot">
          <p:childTnLst>
            <p:seq>
              <p:cTn id="1766" dur="indefinite" nodeType="mainSeq">
                <p:childTnLst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0" dur="2000" fill="hold"/>
                                        <p:tgtEl>
                                          <p:spTgt spid="8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5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5" dur="500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0" dur="500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5" dur="500"/>
                                        <p:tgtEl>
                                          <p:spTgt spid="8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1646280" y="1184400"/>
            <a:ext cx="5851440" cy="3440160"/>
            <a:chOff x="1646280" y="1184400"/>
            <a:chExt cx="5851440" cy="3440160"/>
          </a:xfrm>
        </p:grpSpPr>
        <p:sp>
          <p:nvSpPr>
            <p:cNvPr id="851" name="_s63557"/>
            <p:cNvSpPr/>
            <p:nvPr/>
          </p:nvSpPr>
          <p:spPr>
            <a:xfrm>
              <a:off x="3814920" y="1712880"/>
              <a:ext cx="1514160" cy="151452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2" name="_s63506"/>
            <p:cNvSpPr/>
            <p:nvPr/>
          </p:nvSpPr>
          <p:spPr>
            <a:xfrm>
              <a:off x="3814920" y="1184400"/>
              <a:ext cx="15141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 ESPAÑA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3" name="_s63558"/>
            <p:cNvSpPr/>
            <p:nvPr/>
          </p:nvSpPr>
          <p:spPr>
            <a:xfrm>
              <a:off x="4362480" y="2109960"/>
              <a:ext cx="1514520" cy="151452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4" name="_s63507"/>
            <p:cNvSpPr/>
            <p:nvPr/>
          </p:nvSpPr>
          <p:spPr>
            <a:xfrm>
              <a:off x="5983200" y="221004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ELíCULAS 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EXTRANJERA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5" name="_s63559"/>
            <p:cNvSpPr/>
            <p:nvPr/>
          </p:nvSpPr>
          <p:spPr>
            <a:xfrm>
              <a:off x="4154400" y="2754360"/>
              <a:ext cx="1514520" cy="151452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6" name="_s63509"/>
            <p:cNvSpPr/>
            <p:nvPr/>
          </p:nvSpPr>
          <p:spPr>
            <a:xfrm>
              <a:off x="5443560" y="4246560"/>
              <a:ext cx="15145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QUISTANDO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OLLYWOOD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7" name="_s63563"/>
            <p:cNvSpPr/>
            <p:nvPr/>
          </p:nvSpPr>
          <p:spPr>
            <a:xfrm>
              <a:off x="3476520" y="2755800"/>
              <a:ext cx="1514520" cy="151452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8" name="_s63564"/>
            <p:cNvSpPr/>
            <p:nvPr/>
          </p:nvSpPr>
          <p:spPr>
            <a:xfrm>
              <a:off x="2184480" y="424512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STIVALES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9" name="_s63560"/>
            <p:cNvSpPr/>
            <p:nvPr/>
          </p:nvSpPr>
          <p:spPr>
            <a:xfrm>
              <a:off x="3265560" y="2111400"/>
              <a:ext cx="1514520" cy="1514520"/>
            </a:xfrm>
            <a:prstGeom prst="ellipse">
              <a:avLst/>
            </a:prstGeom>
            <a:solidFill>
              <a:srgbClr val="1a0fff">
                <a:alpha val="50000"/>
              </a:srgbClr>
            </a:solidFill>
            <a:ln w="9360">
              <a:solidFill>
                <a:srgbClr val="1a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60" name="_s63511"/>
            <p:cNvSpPr/>
            <p:nvPr/>
          </p:nvSpPr>
          <p:spPr>
            <a:xfrm>
              <a:off x="1646280" y="2208240"/>
              <a:ext cx="15145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ELíCULA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ESPAÑOLAS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3963960" y="27432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IN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ARI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BC, La Razón, El País, El Mundo, La Vanguardia, El Periódico,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2057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 País y El Mundo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Los más leído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Tienen difusión mundia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3352680"/>
            <a:ext cx="36766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tipo de lector varía según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ideología política de cad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ódico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90720" y="4495680"/>
            <a:ext cx="69339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ienen calidad y son atractivos, porque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grandes escritores son o han sido redactores o  colaboradores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iguel Delib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ario Vargas Llos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grandes columnistas como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Martín Prieto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Federico Jiménez Losanto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… transmiten polémica al debate de idea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1859040" cy="18954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812880" y="1916280"/>
            <a:ext cx="2914560" cy="2189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El cine en Espa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ñ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El cine esp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ñol se distingue por el uso de temas controvertid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as películas se hacen para conmover y hacer pensar al espectad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Hoy en día el cine español está en aug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Se reconoce el trabajo de directores y actores españoles fuera de nuestras fronter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4419720"/>
            <a:ext cx="4572000" cy="23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l cine americano sigue siendo el más visto en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uestro paí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os jóvenes prefieren las películas violentas y de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cción 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uestros festivales están adquiriendo fama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nternacional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lículas españolas compiten por los mejore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mios con industrias más potentes del celuloide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5"/>
          <a:stretch/>
        </p:blipFill>
        <p:spPr>
          <a:xfrm>
            <a:off x="1295280" y="396252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6"/>
          <a:stretch/>
        </p:blipFill>
        <p:spPr>
          <a:xfrm>
            <a:off x="6248520" y="182880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144800" y="601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66880" y="39625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3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8" dur="5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0" dur="5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5" dur="5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3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8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1" dur="5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4" dur="500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7" dur="500"/>
                                        <p:tgtEl>
                                          <p:spTgt spid="8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2" dur="500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5" dur="500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Pe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culas espa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ñ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olas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Riqueza tem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ática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Históricos: Guerra Civ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Dictadur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a democracia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os años 80…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Actuales:   Malos tra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Juventud problemátic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Enfermeda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Drog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Sexo…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Estos temas se tratan sin ning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n tipo de tabú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En la mayor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ía hay una denuncia social reflejo de una realida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Arial"/>
              </a:rPr>
              <a:t>Las películas que más han impactado son las que más polémica han cread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5"/>
          <a:stretch/>
        </p:blipFill>
        <p:spPr>
          <a:xfrm>
            <a:off x="4343400" y="1523880"/>
            <a:ext cx="811080" cy="137160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5943600" y="2666880"/>
            <a:ext cx="971640" cy="11430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7"/>
          <a:stretch/>
        </p:blipFill>
        <p:spPr>
          <a:xfrm>
            <a:off x="5638680" y="1066680"/>
            <a:ext cx="1022400" cy="1447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8"/>
          <a:stretch/>
        </p:blipFill>
        <p:spPr>
          <a:xfrm>
            <a:off x="7848720" y="2743200"/>
            <a:ext cx="965160" cy="13716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9"/>
          <a:stretch/>
        </p:blipFill>
        <p:spPr>
          <a:xfrm>
            <a:off x="6477120" y="5257800"/>
            <a:ext cx="914400" cy="12286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10"/>
          <a:stretch/>
        </p:blipFill>
        <p:spPr>
          <a:xfrm>
            <a:off x="7162920" y="1219320"/>
            <a:ext cx="1752480" cy="127296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11"/>
          <a:stretch/>
        </p:blipFill>
        <p:spPr>
          <a:xfrm>
            <a:off x="4572000" y="32767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12"/>
          <a:stretch/>
        </p:blipFill>
        <p:spPr>
          <a:xfrm>
            <a:off x="5105520" y="4952880"/>
            <a:ext cx="861840" cy="12193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13"/>
          <a:stretch/>
        </p:blipFill>
        <p:spPr>
          <a:xfrm>
            <a:off x="7772400" y="4724280"/>
            <a:ext cx="1039680" cy="15242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4"/>
          <a:stretch/>
        </p:blipFill>
        <p:spPr>
          <a:xfrm>
            <a:off x="6248520" y="3965400"/>
            <a:ext cx="796680" cy="11430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15"/>
          <a:stretch/>
        </p:blipFill>
        <p:spPr>
          <a:xfrm>
            <a:off x="3886200" y="541008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16"/>
          <a:stretch/>
        </p:blipFill>
        <p:spPr>
          <a:xfrm>
            <a:off x="2666880" y="5486400"/>
            <a:ext cx="80028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8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1" dur="8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800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1" dur="8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800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9" dur="8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8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8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800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800" fill="hold"/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800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5" dur="8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8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800" fill="hold"/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800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8" dur="800" fill="hold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800" fill="hold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800" fill="hold"/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800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800" fill="hold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800" fill="hold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800" fill="hold"/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800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8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800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800" fill="hold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800" fill="hold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800" fill="hold"/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800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4" dur="800" fill="hold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800" fill="hold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9" dur="800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800" fill="hold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800" fill="hold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800" fill="hold"/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9" dur="800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800" fill="hold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800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5" dur="800" fill="hold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800" fill="hold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800" fill="hold"/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Pel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culas extranjera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Nos ens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ñan una cultura y una sociedad diferentes a la nuestr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r lo general, no tratan temas muy trascendentales. Son más para entretene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san los mejores efectos especial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 ellas aparecen actores conocid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gunas de las que más éxito han tenido en nuestro país pertenecen a alguno de estos géneros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ciencia fic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dramáticas (basadas sobre todo en hechos reales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 te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1081080" cy="152424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505320" y="24382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3"/>
          <a:stretch/>
        </p:blipFill>
        <p:spPr>
          <a:xfrm>
            <a:off x="304920" y="2895480"/>
            <a:ext cx="990360" cy="152424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4"/>
          <a:stretch/>
        </p:blipFill>
        <p:spPr>
          <a:xfrm>
            <a:off x="304920" y="76212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5"/>
          <a:stretch/>
        </p:blipFill>
        <p:spPr>
          <a:xfrm>
            <a:off x="1981080" y="3124080"/>
            <a:ext cx="1067040" cy="144792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6"/>
          <a:stretch/>
        </p:blipFill>
        <p:spPr>
          <a:xfrm>
            <a:off x="228600" y="518148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7"/>
          <a:stretch/>
        </p:blipFill>
        <p:spPr>
          <a:xfrm>
            <a:off x="2057400" y="50292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8"/>
          <a:stretch/>
        </p:blipFill>
        <p:spPr>
          <a:xfrm>
            <a:off x="3809880" y="4419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9"/>
          <a:stretch/>
        </p:blipFill>
        <p:spPr>
          <a:xfrm>
            <a:off x="5943600" y="5257800"/>
            <a:ext cx="952560" cy="13716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10"/>
          <a:stretch/>
        </p:blipFill>
        <p:spPr>
          <a:xfrm>
            <a:off x="7772400" y="4724280"/>
            <a:ext cx="95256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8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5" dur="8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8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5" dur="800" fill="hold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800" fill="hold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800" fill="hold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4" dur="800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5" dur="800" fill="hold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800" fill="hold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800" fill="hold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800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800" fill="hold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800" fill="hold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800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800" fill="hold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800" fill="hold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4" dur="8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800" fill="hold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800" fill="hold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800" fill="hold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800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800" fill="hold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800" fill="hold"/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2" dur="800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800" fill="hold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800" fill="hold"/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2" dur="8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8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Festivales de cine en España</a:t>
            </a:r>
            <a:br>
              <a:rPr sz="38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243828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LOS GOY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En Madrid. Los primeros fueron en 1987. 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El premio es una estatuilla  con el busto de Francisco de Goya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" y="576252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SEMINCI, SEMANA  INTERNACIONAL DE CINE D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VALLADOLID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En Valladolid. Los primeros fueron en 1956.  El premio es una estatuilla con forma de espiga.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105520" y="4800600"/>
            <a:ext cx="4038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ITGES, FESTIVAL INTERNACIONAL DE CINEMA DE CATALUNY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En Sitges. Los primeros fueron en 1967. El premio que se concede es una medalla con el símbolo de la luna de los hermanos M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é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Arial"/>
              </a:rPr>
              <a:t>è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.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897520" y="1905120"/>
            <a:ext cx="27151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ahoma"/>
              </a:rPr>
              <a:t>FESTIVAL DE CINE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ahoma"/>
              </a:rPr>
              <a:t>DE SAN SEBASTIA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En San Sebastián. Los primeros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fueron en </a:t>
            </a:r>
            <a:r>
              <a:rPr b="0" lang="en-GB" sz="1000" spc="-1" strike="noStrike">
                <a:solidFill>
                  <a:srgbClr val="ffcc00"/>
                </a:solidFill>
                <a:latin typeface="Tahoma"/>
              </a:rPr>
              <a:t>1953</a:t>
            </a: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. El premio es una estatuilla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Tahoma"/>
              </a:rPr>
              <a:t>con forma de concha.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5040" y="1293840"/>
            <a:ext cx="537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ahoma"/>
              </a:rPr>
              <a:t>- Se celebran anualmente en diferentes ciudades de nuestro pa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í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Se premia a las mejores películas y a todo aquello relacionado con ella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Son de carácter internacional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- Los más conocidos son: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523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36232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419720"/>
            <a:ext cx="952560" cy="8953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4495680"/>
            <a:ext cx="952560" cy="8478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9"/>
          <a:stretch/>
        </p:blipFill>
        <p:spPr>
          <a:xfrm>
            <a:off x="1066680" y="4495680"/>
            <a:ext cx="838440" cy="1168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8" dur="5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500"/>
                                        <p:tgtEl>
                                          <p:spTgt spid="8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3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8" dur="500"/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1" dur="500"/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4" dur="500"/>
                                        <p:tgtEl>
                                          <p:spTgt spid="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7" dur="500"/>
                                        <p:tgtEl>
                                          <p:spTgt spid="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0" dur="500"/>
                                        <p:tgtEl>
                                          <p:spTgt spid="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5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1000" fill="hold"/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7" dur="2000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0" dur="2000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CONQUISTANDO HOLLYWOOD</a:t>
            </a:r>
            <a:br>
              <a:rPr sz="2400"/>
            </a:br>
            <a:br>
              <a:rPr sz="2400"/>
            </a:b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uchos lo intentaron, pero s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lo unos pocos han sido los privilegiados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262160" cy="163512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1333440" cy="18288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741600" y="3656160"/>
            <a:ext cx="1904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5"/>
              </a:rPr>
              <a:t>Jos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6"/>
              </a:rPr>
              <a:t>é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7"/>
              </a:rPr>
              <a:t>Luis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8"/>
              </a:rPr>
              <a:t>Garci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ea typeface="Arial"/>
                <a:hlinkClick r:id="rId9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0"/>
              </a:rPr>
              <a:t>‘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1"/>
              </a:rPr>
              <a:t>Volver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2"/>
              </a:rPr>
              <a:t> a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3"/>
              </a:rPr>
              <a:t>empezar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4"/>
              </a:rPr>
              <a:t>’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5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1982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095880" y="3429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Fernando Trueb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        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‘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Bell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É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poque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1993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04920" y="5943600"/>
            <a:ext cx="457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6"/>
              </a:rPr>
              <a:t>Pedro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7"/>
              </a:rPr>
              <a:t>Almodóvar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18"/>
              </a:rPr>
              <a:t>‘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Todo sobre mi madre</a:t>
            </a:r>
            <a:r>
              <a:rPr b="1" i="1" lang="en-US" sz="1200" spc="-1" strike="noStrike">
                <a:solidFill>
                  <a:srgbClr val="ff0000"/>
                </a:solidFill>
                <a:latin typeface="Tahoma"/>
              </a:rPr>
              <a:t>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1999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9"/>
          <a:stretch/>
        </p:blipFill>
        <p:spPr>
          <a:xfrm>
            <a:off x="3657600" y="4724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2819520" y="6248520"/>
            <a:ext cx="4572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Pedro Almodóvar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20"/>
              </a:rPr>
              <a:t>‘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Tahoma"/>
              </a:rPr>
              <a:t>Hable con ella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2003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562720" y="6019920"/>
            <a:ext cx="4572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Alejandro Amenábar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                     </a:t>
            </a:r>
            <a:r>
              <a:rPr b="0" lang="en-US" sz="1200" spc="-1" strike="noStrike" u="sng">
                <a:solidFill>
                  <a:srgbClr val="ff3399"/>
                </a:solidFill>
                <a:uFillTx/>
                <a:latin typeface="Tahoma"/>
                <a:hlinkClick r:id="rId21"/>
              </a:rPr>
              <a:t>‘</a:t>
            </a:r>
            <a:r>
              <a:rPr b="1" i="1" lang="en-US" sz="1200" spc="-1" strike="noStrike" u="sng">
                <a:solidFill>
                  <a:srgbClr val="ff3399"/>
                </a:solidFill>
                <a:uFillTx/>
                <a:latin typeface="Tahoma"/>
              </a:rPr>
              <a:t>Mar adentro’</a:t>
            </a:r>
            <a:r>
              <a:rPr b="0" lang="en-US" sz="1200" spc="-1" strike="noStrike">
                <a:solidFill>
                  <a:srgbClr val="ffcc00"/>
                </a:solidFill>
                <a:latin typeface="Tahoma"/>
              </a:rPr>
              <a:t> 2005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2"/>
          <a:stretch/>
        </p:blipFill>
        <p:spPr>
          <a:xfrm>
            <a:off x="457200" y="4495680"/>
            <a:ext cx="1447920" cy="115416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23"/>
          <a:stretch/>
        </p:blipFill>
        <p:spPr>
          <a:xfrm>
            <a:off x="6781680" y="4038480"/>
            <a:ext cx="12542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0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8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érdida de lectores debido 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Internet y prensa electróni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Prensa alternativa y gratui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65" name=""/>
          <p:cNvGraphicFramePr/>
          <p:nvPr/>
        </p:nvGraphicFramePr>
        <p:xfrm>
          <a:off x="611280" y="4670280"/>
          <a:ext cx="8216640" cy="218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4670280"/>
                    <a:ext cx="821664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"/>
          <p:cNvSpPr/>
          <p:nvPr/>
        </p:nvSpPr>
        <p:spPr>
          <a:xfrm>
            <a:off x="3733920" y="3124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1981080"/>
            <a:ext cx="56390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uevas salida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eriódicos más sensacionalista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99"/>
                </a:solidFill>
                <a:latin typeface="Tahom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frecen promociones: DVDs, suplementos dominicales, colecciones por fascículos, …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32000" y="4005360"/>
            <a:ext cx="62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Tahoma"/>
              </a:rPr>
              <a:t>Evolución de la prensa por medios de comunicación y año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Tahoma"/>
              </a:rPr>
              <a:t>Unidades: Miles de persona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acto de la prensa gratuit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umento de los niveles de lec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atisfacción por su cal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na la lucha contra Internet y la prensa electrónic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916360" y="3352680"/>
            <a:ext cx="1822320" cy="2765520"/>
            <a:chOff x="2916360" y="3352680"/>
            <a:chExt cx="1822320" cy="2765520"/>
          </a:xfrm>
        </p:grpSpPr>
        <p:graphicFrame>
          <p:nvGraphicFramePr>
            <p:cNvPr id="672" name=""/>
            <p:cNvGraphicFramePr/>
            <p:nvPr/>
          </p:nvGraphicFramePr>
          <p:xfrm>
            <a:off x="2916360" y="4293360"/>
            <a:ext cx="1822320" cy="1824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16360" y="4293360"/>
                      <a:ext cx="1822320" cy="182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74" name="" descr=""/>
            <p:cNvPicPr/>
            <p:nvPr/>
          </p:nvPicPr>
          <p:blipFill>
            <a:blip r:embed="rId4"/>
            <a:stretch/>
          </p:blipFill>
          <p:spPr>
            <a:xfrm>
              <a:off x="2916360" y="3352680"/>
              <a:ext cx="1822320" cy="77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457200" y="3789360"/>
            <a:ext cx="2027160" cy="14684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227640" y="2781360"/>
            <a:ext cx="1897200" cy="24400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5292720" y="5589720"/>
            <a:ext cx="163836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NSA ROS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orma sobre la vida privada de los famos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riticada por su frivol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s más leídas: Pronto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¡Hola!, ¡Qué me dices!, Lecturas, Diez Minutos, Sema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>
            <a:off x="4697280" y="4876920"/>
            <a:ext cx="3816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s especiales 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plios según la notic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28560" y="4267080"/>
            <a:ext cx="52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empre crea </a:t>
            </a:r>
            <a:r>
              <a:rPr b="0" lang="en-GB" sz="24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polém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1116000" y="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6"/>
          <a:stretch/>
        </p:blipFill>
        <p:spPr>
          <a:xfrm>
            <a:off x="5157720" y="1751040"/>
            <a:ext cx="2867040" cy="18018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7"/>
          <a:stretch/>
        </p:blipFill>
        <p:spPr>
          <a:xfrm>
            <a:off x="453960" y="4711680"/>
            <a:ext cx="391968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ENSA DEPORTIV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361960" y="5105160"/>
            <a:ext cx="5181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La elección de un periódico deportivo depende de la afic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ó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a la que pertenece el lecto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l ‘Marca’ o el ‘AS’, si eres del Real Mad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El ‘Sport’ o el ‘Mundo deportivo’, si eres del F. C. Barcelon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533520" y="4519440"/>
            <a:ext cx="1563480" cy="2186280"/>
          </a:xfrm>
          <a:prstGeom prst="rect">
            <a:avLst/>
          </a:prstGeom>
          <a:ln w="0">
            <a:noFill/>
          </a:ln>
        </p:spPr>
      </p:pic>
      <p:grpSp>
        <p:nvGrpSpPr>
          <p:cNvPr id="688" name=""/>
          <p:cNvGrpSpPr/>
          <p:nvPr/>
        </p:nvGrpSpPr>
        <p:grpSpPr>
          <a:xfrm>
            <a:off x="6381720" y="1143000"/>
            <a:ext cx="2762280" cy="3492360"/>
            <a:chOff x="6381720" y="1143000"/>
            <a:chExt cx="2762280" cy="3492360"/>
          </a:xfrm>
        </p:grpSpPr>
        <p:pic>
          <p:nvPicPr>
            <p:cNvPr id="689" name="" descr=""/>
            <p:cNvPicPr/>
            <p:nvPr/>
          </p:nvPicPr>
          <p:blipFill>
            <a:blip r:embed="rId3"/>
            <a:stretch/>
          </p:blipFill>
          <p:spPr>
            <a:xfrm>
              <a:off x="6477120" y="1143000"/>
              <a:ext cx="152388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6381720" y="3527280"/>
              <a:ext cx="276228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99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‘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l Marca’ es el diario más leído del país, más incluso que la prensa general.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57200" y="1076400"/>
            <a:ext cx="2590920" cy="2607480"/>
            <a:chOff x="457200" y="1076400"/>
            <a:chExt cx="2590920" cy="2607480"/>
          </a:xfrm>
        </p:grpSpPr>
        <p:sp>
          <p:nvSpPr>
            <p:cNvPr id="692" name=""/>
            <p:cNvSpPr/>
            <p:nvPr/>
          </p:nvSpPr>
          <p:spPr>
            <a:xfrm>
              <a:off x="457200" y="2603520"/>
              <a:ext cx="259092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buClr>
                  <a:srgbClr val="ffff99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El f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útbol como deporte principal y con más seguidores en todo el pais.</a:t>
              </a: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4"/>
            <a:stretch/>
          </p:blipFill>
          <p:spPr>
            <a:xfrm>
              <a:off x="533520" y="1076400"/>
              <a:ext cx="1438200" cy="14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"/>
          <p:cNvSpPr/>
          <p:nvPr/>
        </p:nvSpPr>
        <p:spPr>
          <a:xfrm>
            <a:off x="3348000" y="3122640"/>
            <a:ext cx="2762280" cy="18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a vuelta Esp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ña una de las competiciones más importantes con renombre internacional, se celebra todos los años con gran asistencia de los medios de comunicación y publicidad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492360" y="1197000"/>
            <a:ext cx="2033640" cy="18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48080" cy="68295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692360" y="333360"/>
            <a:ext cx="1328760" cy="18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9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LA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PUBLICIDAD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4642920" y="691920"/>
            <a:ext cx="4038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PUBLICIDAD: Da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Mas Que Anunc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Los Famosos Invaden La Public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Anuncios Controverti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Berlin Sans FB"/>
              </a:rPr>
              <a:t>Anuncios Que Todo el Mundo Recuer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4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10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10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763280" y="1844640"/>
            <a:ext cx="5543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33cc33"/>
                </a:solidFill>
                <a:latin typeface="Tahoma"/>
              </a:rPr>
              <a:t>El mercado publicitario invierte 12.846,3 millones de eur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convencionales  como radio, cine, televisión, diarios, dominicales, revistas, Internet, exterior (cabinas, luminosos, etc) representan un 47.9%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Los medios no convencionales como el buzoneo, catálogos, promociones, ferias, patrocinios, publicidad de móvil etc. representan un 52.1%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1657440" cy="95544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5292720" y="5300640"/>
            <a:ext cx="1795320" cy="13464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7164360" y="1773360"/>
            <a:ext cx="1793880" cy="6174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2124000" y="5300640"/>
            <a:ext cx="1863720" cy="1376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622160" cy="140472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6"/>
          <a:stretch/>
        </p:blipFill>
        <p:spPr>
          <a:xfrm>
            <a:off x="7164360" y="3500280"/>
            <a:ext cx="1797120" cy="9954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1752480" y="685800"/>
            <a:ext cx="5616720" cy="490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Vrinda"/>
              </a:rPr>
              <a:t>la publicidad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Vrinda"/>
              <a:ea typeface="Vrinda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3:00:13Z</dcterms:created>
  <dc:creator> </dc:creator>
  <dc:description/>
  <dc:language>en-US</dc:language>
  <cp:lastModifiedBy>OEM User</cp:lastModifiedBy>
  <dcterms:modified xsi:type="dcterms:W3CDTF">2006-06-14T21:18:18Z</dcterms:modified>
  <cp:revision>101</cp:revision>
  <dc:subject/>
  <dc:title>Slide 1</dc:title>
</cp:coreProperties>
</file>